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wmf" ContentType="image/x-wmf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media/image10.jpeg" ContentType="image/jpe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B659D-F13C-4FCC-B84F-11C968EC8A2B}" type="slidenum">
              <a:rPr b="0" lang="en-GB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E2853-45AC-4859-9124-EE5649BF112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1EF18-1A6B-4BB0-8340-6F69442E1FD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706E5-FB77-4E23-8103-B89544931AB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3303B-24CC-472A-AEE1-F05D637AADC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11ACC-57C6-436C-B80F-9E40147B708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26AA7-6176-4261-827F-8AFD60F9841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B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E6907-2935-449D-A247-C3D96C0DE69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F976A-5941-4361-B09C-62F29085867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A9152-04AB-4372-BC9C-275C3E56109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30040" indent="-23004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05514-AA59-42BA-8BE0-52087190A3B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0307E-7DBC-489F-B9DB-7DE4E273872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6A90D-DDEF-4182-A71F-62401831AAE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621ED-1FB8-4831-9096-C672F81B7DA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B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D0A32-5F0E-4102-BB48-CB904F30DEC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091B1-2274-414D-8B00-C3A7A189756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570E6-E821-462F-A36C-5B281866C9E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AB592-E0FA-4B47-A881-7BB2DFBB70B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B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003FE-46C4-482D-B38D-0F97977E6DE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7F006-3D06-41E5-97BB-279F9F66DAF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DE450-3A64-4AAA-B773-1017EE571FF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9C814-69DB-47F6-8558-3D621727717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1B1E9-88D3-41F4-9D80-CBE138FC33A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0406B-F23A-4C9D-979A-F580644DA7D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62FD1-DFE1-4A41-BF65-BBEF5897131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D6903-1390-4E1C-96EB-90DB8141B1B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89500-174F-4CA1-89D2-89BAA0BD704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B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5A166-2213-4849-AD18-A8E2CDBE7EA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24385-6660-4CC2-BA67-AA63B310880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9A60A-4169-4947-B3E9-72141502F18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26781-E6D6-4F5F-9687-682E77FAA85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C8F6F-3DF7-4A07-BF20-32B8F57AF2F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B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F3A12-3DA2-47E9-A415-62194B40FF9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FC579-CD44-4E8F-8C0C-61CE6421C27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B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AD86F-13C7-477C-9A82-16742F846F3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B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F9E9D-FCA9-4B90-970A-7D2ACB7F687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B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E65A8-CB99-4446-BF9A-FD72844DF8F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B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F4A4F-E93B-47A8-B205-B52367F9341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89604-F05F-4DB7-B814-6DECA94EB49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B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9DF53-A3BC-4CFA-81F4-70013B3BF72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B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E777D-700B-4657-BDDE-35256B34882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AFF41-21D6-4A68-905C-4F69E1D57D3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C28D-6EF0-4BF7-8247-941BD2147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D846-E6C3-43F9-92B1-269C34B2A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F4C7-2C34-40ED-B6EA-BFA139197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7BD4-EB86-4DBA-A367-7C2D0692B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0A5CF-2729-42AA-8983-98364C6CB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8332C-D8B8-44ED-9657-A8D63E216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7AB7B-9878-4930-8395-1B23C5F8A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B95B9-5A09-4B8A-82B1-E1E22CAB6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D7420-D3C1-4AC5-BFEC-DB2130AA2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B9F96-E98B-4CCA-BDDE-402701CC5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B545C-6EE6-4F81-9E2E-C626E4B03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3B78-AF12-42C3-A6E0-607541F3B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AC116-AB81-4921-AA83-1802D6B68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807A7-863C-436F-8B5F-95D8AB94A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1BA61-BB34-40CB-B71E-CBB412BF5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84F53-0B8E-48A7-8979-F5269B83D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1376A-2D8A-4007-99EC-08AB65837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A63F-B2FD-46D5-BE57-0544C2C52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24EC-A8CB-4A00-A783-0813C4812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02AB-3A79-42FC-AE0B-7B5BA7450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6402-983B-4400-8CAB-79A5C2DEE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6FC9-5BC7-4C49-8859-FB73DE1A4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29DF-B90B-4C52-91EB-40E9ED544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8840-9D9B-4616-8C0C-296A6D5F3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E0770-52B6-4E15-8E7D-D14A2B0CA68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7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5" name="Picture 6" descr="LOGO CE-EN-quadri.eps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9986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1"/>
          <p:cNvSpPr/>
          <p:nvPr/>
        </p:nvSpPr>
        <p:spPr>
          <a:xfrm>
            <a:off x="4267080" y="6659640"/>
            <a:ext cx="611280" cy="21600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7B3D6-D7EF-4ACB-B292-4E15FEBCC491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11280" y="2565360"/>
            <a:ext cx="842472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d624"/>
                </a:solidFill>
                <a:latin typeface="Arial Black"/>
              </a:rPr>
              <a:t>Módulo 7</a:t>
            </a:r>
            <a:br>
              <a:rPr sz="3200"/>
            </a:br>
            <a:r>
              <a:rPr b="1" lang="en-GB" sz="3200" spc="-1" strike="noStrike">
                <a:solidFill>
                  <a:srgbClr val="ffd624"/>
                </a:solidFill>
                <a:latin typeface="Arial Black"/>
              </a:rPr>
              <a:t>Integración en el proceso presupuestario</a:t>
            </a:r>
            <a:endParaRPr b="1" lang="en-US" sz="3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611280" y="4437000"/>
            <a:ext cx="853272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ffffff"/>
                </a:solidFill>
                <a:latin typeface="Verdana"/>
              </a:rPr>
              <a:t>Integración del medio ambiente y el cambio climático a nivel nacional</a:t>
            </a:r>
            <a:endParaRPr b="0" i="1" lang="en-US" sz="25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112536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f5494"/>
                </a:solidFill>
                <a:latin typeface="Verdana"/>
              </a:rPr>
              <a:t>Condiciones básicas para influir en el presupuesto</a:t>
            </a:r>
            <a:endParaRPr b="1" lang="en-US" sz="2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94920" y="2276280"/>
            <a:ext cx="8534520" cy="436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Entender el proceso de asignación presupuestaria y encontrar los puntos de entrada apropiado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Coordinar con procesos de políticas relacionado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Implicación de actores que determinan el presupuesto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Movilización de la sociedad civi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Coordinación con los donante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Potencial bajo el Apoyo Presupuestario General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Promoción de financiación adecuada para organismos sectoriales y subnacionale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A52BE-7CE1-4F03-80BB-7E6052D0CD7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El medio ambiente y el cambio climático en la fase de asignación de recurso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78920" y="1413000"/>
            <a:ext cx="873612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5494"/>
                </a:solidFill>
                <a:latin typeface="Verdana"/>
              </a:rPr>
              <a:t>La integración del medio ambiente/cambio climático exige: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Reasignar financiación a los sectores y las regiones más vulnerables o prioritaria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Aportar financiación para adoptar medidas ambientale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Aportar financiación para planes o actividades específicos de adaptación y/o mitigación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Añadir consideraciones ambientales y climáticas a los criterios para examinar y seleccionar proyectos e inversione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Dejar hueco para actividades </a:t>
            </a:r>
            <a:r>
              <a:rPr b="0" lang="ja-JP" sz="2000" spc="-1" strike="noStrike">
                <a:solidFill>
                  <a:srgbClr val="0f5494"/>
                </a:solidFill>
                <a:latin typeface="Verdana"/>
              </a:rPr>
              <a:t>‘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intersectoriales</a:t>
            </a:r>
            <a:r>
              <a:rPr b="0" lang="ja-JP" sz="2000" spc="-1" strike="noStrike">
                <a:solidFill>
                  <a:srgbClr val="0f5494"/>
                </a:solidFill>
                <a:latin typeface="Verdana"/>
              </a:rPr>
              <a:t>’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 (por ejemplo, RRD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5494"/>
                </a:solidFill>
                <a:latin typeface="Verdana"/>
              </a:rPr>
              <a:t>Este proceso suele implicar una combinación de procesos descendentes y ascendentes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6" name="TextBox 3"/>
          <p:cNvSpPr/>
          <p:nvPr/>
        </p:nvSpPr>
        <p:spPr>
          <a:xfrm>
            <a:off x="4427640" y="6165720"/>
            <a:ext cx="342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Fuente: OCDE (2009a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7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BEB0E-06F1-4A2F-8C7F-3AF79E41FEB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3672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Fases clave en la elaboración presupuestaria y puntos de entrada relacionados (1)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457200" y="1752480"/>
          <a:ext cx="8534520" cy="4853160"/>
        </p:xfrm>
        <a:graphic>
          <a:graphicData uri="http://schemas.openxmlformats.org/drawingml/2006/table">
            <a:tbl>
              <a:tblPr/>
              <a:tblGrid>
                <a:gridCol w="4267080"/>
                <a:gridCol w="426744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ases clave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ctores clave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 Determinación del enfoque macroeconómico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in. de Finanzas/Planificación, oficina estadística, banco central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. Planificación estratégica plurianual: estrategia fiscal a medio plazo, marco de gastos a medio plazo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obierno, Min. de Finanzas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14637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. Determinación de los siguientes elementos para el año siguiente: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Verdan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gresos previstos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Verdan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ivel aceptable de déficit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Verdan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ivel global de gastos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in. de finanzas (departamento de presupuestos, departamento macroeconómico), gobierno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</a:tr>
              <a:tr h="11883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. Asignación previa de gastos entre los ministerios competentes, de acuerdo con las prioridades políticas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obierno, Min. de Finanzas (departamento de presupuestos)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</a:tbl>
          </a:graphicData>
        </a:graphic>
      </p:graphicFrame>
      <p:sp>
        <p:nvSpPr>
          <p:cNvPr id="160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E1D9D-7CD3-491B-A8D7-C26DCB81434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1" name="Rounded Rectangular Callout 6"/>
          <p:cNvSpPr/>
          <p:nvPr/>
        </p:nvSpPr>
        <p:spPr>
          <a:xfrm>
            <a:off x="609480" y="914400"/>
            <a:ext cx="2590920" cy="1066680"/>
          </a:xfrm>
          <a:prstGeom prst="wedgeRoundRectCallout">
            <a:avLst>
              <a:gd name="adj1" fmla="val -10592"/>
              <a:gd name="adj2" fmla="val 87814"/>
              <a:gd name="adj3" fmla="val 16667"/>
            </a:avLst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2060"/>
                </a:solidFill>
                <a:latin typeface="Verdana"/>
              </a:rPr>
              <a:t>Impactos del cambio climático sobre el crecimiento y la actividad económica; valor de los servicios ecosistémico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2" name="Rounded Rectangular Callout 7"/>
          <p:cNvSpPr/>
          <p:nvPr/>
        </p:nvSpPr>
        <p:spPr>
          <a:xfrm>
            <a:off x="4572000" y="692280"/>
            <a:ext cx="2971800" cy="1226880"/>
          </a:xfrm>
          <a:prstGeom prst="wedgeRoundRectCallout">
            <a:avLst>
              <a:gd name="adj1" fmla="val -66379"/>
              <a:gd name="adj2" fmla="val 89027"/>
              <a:gd name="adj3" fmla="val 16667"/>
            </a:avLst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2060"/>
                </a:solidFill>
                <a:latin typeface="Verdana"/>
              </a:rPr>
              <a:t>Impactos de la mejora del estado de la adaptación/mitigación del medio ambiente y del cambio climático sobre el crecimiento y la actividad económica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3" name="Rounded Rectangular Callout 8"/>
          <p:cNvSpPr/>
          <p:nvPr/>
        </p:nvSpPr>
        <p:spPr>
          <a:xfrm>
            <a:off x="5257800" y="3124080"/>
            <a:ext cx="2819520" cy="457200"/>
          </a:xfrm>
          <a:prstGeom prst="wedgeRoundRectCallout">
            <a:avLst>
              <a:gd name="adj1" fmla="val -79578"/>
              <a:gd name="adj2" fmla="val 136231"/>
              <a:gd name="adj3" fmla="val 16667"/>
            </a:avLst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2060"/>
                </a:solidFill>
                <a:latin typeface="Verdana"/>
              </a:rPr>
              <a:t>Costes adicionales de medida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4" name="Rounded Rectangular Callout 9"/>
          <p:cNvSpPr/>
          <p:nvPr/>
        </p:nvSpPr>
        <p:spPr>
          <a:xfrm>
            <a:off x="6732720" y="3716280"/>
            <a:ext cx="2133360" cy="792360"/>
          </a:xfrm>
          <a:prstGeom prst="wedgeRoundRectCallout">
            <a:avLst>
              <a:gd name="adj1" fmla="val -159490"/>
              <a:gd name="adj2" fmla="val -9314"/>
              <a:gd name="adj3" fmla="val 16667"/>
            </a:avLst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2060"/>
                </a:solidFill>
                <a:latin typeface="Verdana"/>
              </a:rPr>
              <a:t>Recursos adicionales requeridos/comprometido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5" name="Rounded Rectangular Callout 10"/>
          <p:cNvSpPr/>
          <p:nvPr/>
        </p:nvSpPr>
        <p:spPr>
          <a:xfrm>
            <a:off x="5435640" y="4653000"/>
            <a:ext cx="2743200" cy="609480"/>
          </a:xfrm>
          <a:prstGeom prst="wedgeRoundRectCallout">
            <a:avLst>
              <a:gd name="adj1" fmla="val -83254"/>
              <a:gd name="adj2" fmla="val -134050"/>
              <a:gd name="adj3" fmla="val 16667"/>
            </a:avLst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2060"/>
                </a:solidFill>
                <a:latin typeface="Verdana"/>
              </a:rPr>
              <a:t>Ingresos/ahorros de costes adicionale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6" name="Right Brace 11"/>
          <p:cNvSpPr/>
          <p:nvPr/>
        </p:nvSpPr>
        <p:spPr>
          <a:xfrm>
            <a:off x="4284720" y="2781360"/>
            <a:ext cx="142920" cy="2303280"/>
          </a:xfrm>
          <a:custGeom>
            <a:avLst/>
            <a:gdLst>
              <a:gd name="textAreaLeft" fmla="*/ 0 w 142920"/>
              <a:gd name="textAreaRight" fmla="*/ 51480 w 142920"/>
              <a:gd name="textAreaTop" fmla="*/ 3600 h 2303280"/>
              <a:gd name="textAreaBottom" fmla="*/ 2299680 h 23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6"/>
                  <a:pt x="10800" y="112"/>
                </a:cubicBezTo>
                <a:lnTo>
                  <a:pt x="10800" y="10688"/>
                </a:lnTo>
                <a:cubicBezTo>
                  <a:pt x="10800" y="10744"/>
                  <a:pt x="16200" y="10800"/>
                  <a:pt x="21600" y="10800"/>
                </a:cubicBezTo>
                <a:cubicBezTo>
                  <a:pt x="16200" y="10800"/>
                  <a:pt x="10800" y="10856"/>
                  <a:pt x="10800" y="10912"/>
                </a:cubicBezTo>
                <a:lnTo>
                  <a:pt x="10800" y="21488"/>
                </a:lnTo>
                <a:cubicBezTo>
                  <a:pt x="10800" y="21544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7" name="Rounded Rectangular Callout 12"/>
          <p:cNvSpPr/>
          <p:nvPr/>
        </p:nvSpPr>
        <p:spPr>
          <a:xfrm>
            <a:off x="5219640" y="5445000"/>
            <a:ext cx="3071880" cy="1067040"/>
          </a:xfrm>
          <a:prstGeom prst="wedgeRoundRectCallout">
            <a:avLst>
              <a:gd name="adj1" fmla="val -92444"/>
              <a:gd name="adj2" fmla="val -9370"/>
              <a:gd name="adj3" fmla="val 16667"/>
            </a:avLst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2060"/>
                </a:solidFill>
                <a:latin typeface="Verdana"/>
              </a:rPr>
              <a:t>Reasignación de fondos para apoyar los objetivos de adaptación/mitigación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8" name="Rounded Rectangular Callout 13"/>
          <p:cNvSpPr/>
          <p:nvPr/>
        </p:nvSpPr>
        <p:spPr>
          <a:xfrm>
            <a:off x="324000" y="3068640"/>
            <a:ext cx="1676160" cy="762120"/>
          </a:xfrm>
          <a:prstGeom prst="wedgeRoundRectCallout">
            <a:avLst>
              <a:gd name="adj1" fmla="val -2736"/>
              <a:gd name="adj2" fmla="val -106625"/>
              <a:gd name="adj3" fmla="val 16667"/>
            </a:avLst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2060"/>
                </a:solidFill>
                <a:latin typeface="Verdana"/>
              </a:rPr>
              <a:t>Contabilidad verde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640720" cy="98100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Fases clave en la elaboración presupuestaria y puntos de entrada relacionados (2)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250920" y="1125360"/>
          <a:ext cx="8534160" cy="5583240"/>
        </p:xfrm>
        <a:graphic>
          <a:graphicData uri="http://schemas.openxmlformats.org/drawingml/2006/table">
            <a:tbl>
              <a:tblPr/>
              <a:tblGrid>
                <a:gridCol w="4267080"/>
                <a:gridCol w="4267080"/>
              </a:tblGrid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ases clave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ctores clave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. Preparación/distribución de techos de gastos y circulares presupuestarias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in. de Finanzas (departamento de presupuestos)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. Costes de políticas sectoriales, presentación de ofertas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dos los ministerios y organismos gubernamentales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. Revisión de ofertas sectoriales, pruebas de estimaciones de gastos, finalización de estimaciones de presupuestos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in. de Finanzas (departamento de presupuestos), Gobierno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. Negociaciones, seguidas de la aceptación del presupuesto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in. de Finanzas, otros ministerios/agencias, gobierno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117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. Elaboración del proyecto legislativo de asignación de recursos y de documentos presupuestarios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in. de finanzas (departamento de presupuestos)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. Presentación de presupuesto al Parlamento – Debate y adopción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in. de Finanzas, Parlamento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</a:tbl>
          </a:graphicData>
        </a:graphic>
      </p:graphicFrame>
      <p:sp>
        <p:nvSpPr>
          <p:cNvPr id="171" name="Slide Number Placeholder 4"/>
          <p:cNvSpPr/>
          <p:nvPr/>
        </p:nvSpPr>
        <p:spPr>
          <a:xfrm>
            <a:off x="6553080" y="5958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ABD14-59CE-4ABB-815F-E239EA78C14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2" name="Rounded Rectangular Callout 5"/>
          <p:cNvSpPr/>
          <p:nvPr/>
        </p:nvSpPr>
        <p:spPr>
          <a:xfrm>
            <a:off x="4859280" y="1125360"/>
            <a:ext cx="3657600" cy="1028880"/>
          </a:xfrm>
          <a:prstGeom prst="wedgeRoundRectCallout">
            <a:avLst>
              <a:gd name="adj1" fmla="val -93412"/>
              <a:gd name="adj2" fmla="val 30819"/>
              <a:gd name="adj3" fmla="val 16667"/>
            </a:avLst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2060"/>
                </a:solidFill>
                <a:latin typeface="Verdana"/>
              </a:rPr>
              <a:t>Instrucciones relativas a las políticas y medidas (adaptación/mitigación) de gastos relativos a medio ambiente y cambio climático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3" name="Rounded Rectangular Callout 6"/>
          <p:cNvSpPr/>
          <p:nvPr/>
        </p:nvSpPr>
        <p:spPr>
          <a:xfrm>
            <a:off x="4716360" y="2349360"/>
            <a:ext cx="4267440" cy="676440"/>
          </a:xfrm>
          <a:prstGeom prst="wedgeRoundRectCallout">
            <a:avLst>
              <a:gd name="adj1" fmla="val -81898"/>
              <a:gd name="adj2" fmla="val 14666"/>
              <a:gd name="adj3" fmla="val 16667"/>
            </a:avLst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2060"/>
                </a:solidFill>
                <a:latin typeface="Verdana"/>
              </a:rPr>
              <a:t>Costes e integración de políticas y medidas relativas al medio ambiente y al cambio climático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4" name="Rounded Rectangular Callout 7"/>
          <p:cNvSpPr/>
          <p:nvPr/>
        </p:nvSpPr>
        <p:spPr>
          <a:xfrm>
            <a:off x="5508720" y="4005360"/>
            <a:ext cx="2514600" cy="1133280"/>
          </a:xfrm>
          <a:prstGeom prst="wedgeRoundRectCallout">
            <a:avLst>
              <a:gd name="adj1" fmla="val -112893"/>
              <a:gd name="adj2" fmla="val 4412"/>
              <a:gd name="adj3" fmla="val 16667"/>
            </a:avLst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2060"/>
                </a:solidFill>
                <a:latin typeface="Verdana"/>
              </a:rPr>
              <a:t>Uso de procedimientos de examen de riesgos medioambientales y climático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5" name="Rounded Rectangular Callout 8"/>
          <p:cNvSpPr/>
          <p:nvPr/>
        </p:nvSpPr>
        <p:spPr>
          <a:xfrm>
            <a:off x="4572000" y="3213000"/>
            <a:ext cx="4038480" cy="676440"/>
          </a:xfrm>
          <a:prstGeom prst="wedgeRoundRectCallout">
            <a:avLst>
              <a:gd name="adj1" fmla="val -69611"/>
              <a:gd name="adj2" fmla="val -20810"/>
              <a:gd name="adj3" fmla="val 16667"/>
            </a:avLst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2060"/>
                </a:solidFill>
                <a:latin typeface="Verdana"/>
              </a:rPr>
              <a:t>Establecimiento de las prioridades de medidas y políticas relativas al medio ambiente y al cambio climático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6" name="Rounded Rectangular Callout 9"/>
          <p:cNvSpPr/>
          <p:nvPr/>
        </p:nvSpPr>
        <p:spPr>
          <a:xfrm>
            <a:off x="4788000" y="5950080"/>
            <a:ext cx="3962160" cy="677880"/>
          </a:xfrm>
          <a:prstGeom prst="wedgeRoundRectCallout">
            <a:avLst>
              <a:gd name="adj1" fmla="val -70773"/>
              <a:gd name="adj2" fmla="val 3425"/>
              <a:gd name="adj3" fmla="val 16667"/>
            </a:avLst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2060"/>
                </a:solidFill>
                <a:latin typeface="Verdana"/>
              </a:rPr>
              <a:t>Debate de las medidas y políticas relativas al medio ambiente y al cambio climático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98100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Seguimiento de los gastos relativos al medio ambiente y al clima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250920" y="1412640"/>
            <a:ext cx="8642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Durante la elaboración, la implementación, el monitoreo y la presentación de informes en relación con los presupuestos, </a:t>
            </a:r>
            <a:r>
              <a:rPr b="0" lang="ja-JP" sz="2000" spc="-1" strike="noStrike">
                <a:solidFill>
                  <a:srgbClr val="0f5494"/>
                </a:solidFill>
                <a:latin typeface="Verdana"/>
              </a:rPr>
              <a:t>‘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realizar un seguimiento</a:t>
            </a:r>
            <a:r>
              <a:rPr b="0" lang="ja-JP" sz="2000" spc="-1" strike="noStrike">
                <a:solidFill>
                  <a:srgbClr val="0f5494"/>
                </a:solidFill>
                <a:latin typeface="Verdana"/>
              </a:rPr>
              <a:t>’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 de los principales gastos relativos al medio ambiente y al clima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Adaptar la clasificación presupuestaria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f5494"/>
                </a:solidFill>
                <a:latin typeface="Verdana"/>
              </a:rPr>
              <a:t>‘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Señalar</a:t>
            </a:r>
            <a:r>
              <a:rPr b="0" lang="ja-JP" sz="1800" spc="-1" strike="noStrike">
                <a:solidFill>
                  <a:srgbClr val="0f5494"/>
                </a:solidFill>
                <a:latin typeface="Verdana"/>
              </a:rPr>
              <a:t>’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 los gastos suplementarios relativos al medio ambiente y al clima integrados en programas </a:t>
            </a:r>
            <a:r>
              <a:rPr b="0" lang="ja-JP" sz="1800" spc="-1" strike="noStrike">
                <a:solidFill>
                  <a:srgbClr val="0f5494"/>
                </a:solidFill>
                <a:latin typeface="Verdana"/>
              </a:rPr>
              <a:t>‘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no medioambientales</a:t>
            </a:r>
            <a:r>
              <a:rPr b="0" lang="ja-JP" sz="1800" spc="-1" strike="noStrike">
                <a:solidFill>
                  <a:srgbClr val="0f5494"/>
                </a:solidFill>
                <a:latin typeface="Verdana"/>
              </a:rPr>
              <a:t>’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 y </a:t>
            </a:r>
            <a:r>
              <a:rPr b="0" lang="ja-JP" sz="1800" spc="-1" strike="noStrike">
                <a:solidFill>
                  <a:srgbClr val="0f5494"/>
                </a:solidFill>
                <a:latin typeface="Verdana"/>
              </a:rPr>
              <a:t>‘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no climáticos</a:t>
            </a:r>
            <a:r>
              <a:rPr b="0" lang="ja-JP" sz="1800" spc="-1" strike="noStrike">
                <a:solidFill>
                  <a:srgbClr val="0f5494"/>
                </a:solidFill>
                <a:latin typeface="Verdana"/>
              </a:rPr>
              <a:t>’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Esto es importante para: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monitorear la implementación de medidas medioambientales y climáticas en estrategias nacionales y sectoriales 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Informar a la CMNUCC (comunicaciones nacionales)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Asegurar la elegibilidad para la financiación con fondos ambeintales y de mitigación/adaptación al cambio climático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0E267-4DA9-4549-8739-1303A759B74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1196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Verdana"/>
              </a:rPr>
              <a:t>Monitoreo de la financiación en relación con el medio ambiente y el clima: marcadores medioambientales y climáticos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95280" y="2420640"/>
            <a:ext cx="842472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Códigos estadísticos desarrollados por la OCDE </a:t>
            </a:r>
            <a:br>
              <a:rPr sz="2000"/>
            </a:b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(DCD) para monitorear la cantidad de recursos de asistencia destinados al medio ambiente y al cambio climático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Podría adaptarse para la aplicación a los presupuestos nacionales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Por ejemplo, Kenia está presentando un Sistema Electrónico de Monitoreo de Proyectos (e-PROMIS) para captar </a:t>
            </a:r>
            <a:r>
              <a:rPr b="0" lang="ja-JP" sz="1800" spc="-1" strike="noStrike">
                <a:solidFill>
                  <a:srgbClr val="0f5494"/>
                </a:solidFill>
                <a:latin typeface="Verdana"/>
              </a:rPr>
              <a:t>‘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información más exhaustiva y organizada sobre proyectos</a:t>
            </a:r>
            <a:r>
              <a:rPr b="0" lang="ja-JP" sz="1800" spc="-1" strike="noStrike">
                <a:solidFill>
                  <a:srgbClr val="0f5494"/>
                </a:solidFill>
                <a:latin typeface="Verdana"/>
              </a:rPr>
              <a:t>’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 que facilitará la identificación de la financiación relativa al cambio climático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07075-8959-4171-B14A-C31827BBF7C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3" name="TextBox 3"/>
          <p:cNvSpPr/>
          <p:nvPr/>
        </p:nvSpPr>
        <p:spPr>
          <a:xfrm>
            <a:off x="1042920" y="6237360"/>
            <a:ext cx="754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Fuentes: OCDE-DCD (2011); Norrington-Davies and Thornton (2011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324000" y="2060640"/>
            <a:ext cx="8534160" cy="3047760"/>
          </a:xfrm>
          <a:prstGeom prst="rect">
            <a:avLst/>
          </a:prstGeom>
          <a:gradFill rotWithShape="0">
            <a:gsLst>
              <a:gs pos="0">
                <a:srgbClr val="afe0e4"/>
              </a:gs>
              <a:gs pos="100000">
                <a:srgbClr val="85aaad"/>
              </a:gs>
            </a:gsLst>
            <a:lin ang="5400000"/>
          </a:gradFill>
          <a:ln w="93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marL="343080" indent="-34308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Revisiones del Gasto Público (RGP)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Revisiones del Gasto Público Ambiental (RGPA)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Revisión Institucional y del Gasto Público Climático (RIGPC)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9A755-D527-4825-874B-986D671DD00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105228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Revisiones del Gasto Público (RGP)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250560" y="2060280"/>
            <a:ext cx="84978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Una herramienta para analizar cómo se planifican, asignan y gastan en realidad los recursos presupuestarios en relación a distintas prioridades y objetivos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Las RGP pueden utilizarse como una herramienta para apoyar la integración del cambio climático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51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Seguimiento de los gastos relativos a la adaptación y mitigación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51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No obstante, también es importante centrarse en la contribución global del gasto público en los resultados de desarrollo resiliente al clima y de bajas emisiones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En relación con el gasto ambiental, puede adoptar la forma de una Revisión del Gasto Público Ambiental (RGPA)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28813-1548-4C1A-8ABA-BA6B6696E41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93672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Revisiones del Gasto Público Ambiental (RGPA)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04560" y="1557000"/>
            <a:ext cx="88390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Aspectos comunes abordados: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52040" indent="-429480">
              <a:spcBef>
                <a:spcPts val="476"/>
              </a:spcBef>
              <a:buClr>
                <a:srgbClr val="0f5494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f5494"/>
                </a:solidFill>
                <a:latin typeface="Verdana"/>
              </a:rPr>
              <a:t>Niveles y tendencias en el gasto ambiental</a:t>
            </a:r>
            <a:endParaRPr b="1" lang="en-US" sz="1900" spc="-1" strike="noStrike">
              <a:solidFill>
                <a:srgbClr val="0f5494"/>
              </a:solidFill>
              <a:latin typeface="Verdana"/>
            </a:endParaRPr>
          </a:p>
          <a:p>
            <a:pPr lvl="1" marL="752040" indent="-429480">
              <a:spcBef>
                <a:spcPts val="476"/>
              </a:spcBef>
              <a:buClr>
                <a:srgbClr val="0f5494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f5494"/>
                </a:solidFill>
                <a:latin typeface="Verdana"/>
              </a:rPr>
              <a:t>Desagregación del gasto ambiental por tipo de actividad</a:t>
            </a:r>
            <a:endParaRPr b="1" lang="en-US" sz="1900" spc="-1" strike="noStrike">
              <a:solidFill>
                <a:srgbClr val="0f5494"/>
              </a:solidFill>
              <a:latin typeface="Verdana"/>
            </a:endParaRPr>
          </a:p>
          <a:p>
            <a:pPr lvl="1" marL="752040" indent="-429480">
              <a:spcBef>
                <a:spcPts val="476"/>
              </a:spcBef>
              <a:buClr>
                <a:srgbClr val="0f5494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f5494"/>
                </a:solidFill>
                <a:latin typeface="Verdana"/>
              </a:rPr>
              <a:t>Distribución de gastos ambientales en relación con el establecimiento de prioridades medioambientales</a:t>
            </a:r>
            <a:endParaRPr b="1" lang="en-US" sz="1900" spc="-1" strike="noStrike">
              <a:solidFill>
                <a:srgbClr val="0f5494"/>
              </a:solidFill>
              <a:latin typeface="Verdana"/>
            </a:endParaRPr>
          </a:p>
          <a:p>
            <a:pPr lvl="1" marL="752040" indent="-429480">
              <a:spcBef>
                <a:spcPts val="476"/>
              </a:spcBef>
              <a:buClr>
                <a:srgbClr val="0f5494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f5494"/>
                </a:solidFill>
                <a:latin typeface="Verdana"/>
              </a:rPr>
              <a:t>Eficiencia y eficacia de gastos ambientales</a:t>
            </a:r>
            <a:endParaRPr b="1" lang="en-US" sz="1900" spc="-1" strike="noStrike">
              <a:solidFill>
                <a:srgbClr val="0f5494"/>
              </a:solidFill>
              <a:latin typeface="Verdana"/>
            </a:endParaRPr>
          </a:p>
          <a:p>
            <a:pPr lvl="1" marL="752040" indent="-429480">
              <a:spcBef>
                <a:spcPts val="476"/>
              </a:spcBef>
              <a:buClr>
                <a:srgbClr val="0f5494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f5494"/>
                </a:solidFill>
                <a:latin typeface="Verdana"/>
              </a:rPr>
              <a:t>Capacidad gubernamental para la ejecución del presupuesto</a:t>
            </a:r>
            <a:endParaRPr b="1" lang="en-US" sz="1900" spc="-1" strike="noStrike">
              <a:solidFill>
                <a:srgbClr val="0f5494"/>
              </a:solidFill>
              <a:latin typeface="Verdana"/>
            </a:endParaRPr>
          </a:p>
          <a:p>
            <a:pPr lvl="1" marL="752040" indent="-429480">
              <a:spcBef>
                <a:spcPts val="476"/>
              </a:spcBef>
              <a:buClr>
                <a:srgbClr val="0f5494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f5494"/>
                </a:solidFill>
                <a:latin typeface="Verdana"/>
              </a:rPr>
              <a:t>Descentralización fiscal</a:t>
            </a:r>
            <a:endParaRPr b="1" lang="en-US" sz="1900" spc="-1" strike="noStrike">
              <a:solidFill>
                <a:srgbClr val="0f5494"/>
              </a:solidFill>
              <a:latin typeface="Verdana"/>
            </a:endParaRPr>
          </a:p>
          <a:p>
            <a:pPr lvl="1" marL="752040" indent="-429480">
              <a:spcBef>
                <a:spcPts val="476"/>
              </a:spcBef>
              <a:buClr>
                <a:srgbClr val="0f5494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f5494"/>
                </a:solidFill>
                <a:latin typeface="Verdana"/>
              </a:rPr>
              <a:t>Sostenibilidad del presupuesto medioambiental</a:t>
            </a:r>
            <a:endParaRPr b="1" lang="en-US" sz="1900" spc="-1" strike="noStrike">
              <a:solidFill>
                <a:srgbClr val="0f5494"/>
              </a:solidFill>
              <a:latin typeface="Verdana"/>
            </a:endParaRPr>
          </a:p>
          <a:p>
            <a:pPr lvl="1" marL="752040" indent="-429480">
              <a:spcBef>
                <a:spcPts val="476"/>
              </a:spcBef>
              <a:buClr>
                <a:srgbClr val="0f5494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f5494"/>
                </a:solidFill>
                <a:latin typeface="Verdana"/>
              </a:rPr>
              <a:t>Ratios: gastos de capital/corrientes y gastos salariales/no salariales</a:t>
            </a:r>
            <a:endParaRPr b="1" lang="en-US" sz="1900" spc="-1" strike="noStrike">
              <a:solidFill>
                <a:srgbClr val="0f5494"/>
              </a:solidFill>
              <a:latin typeface="Verdana"/>
            </a:endParaRPr>
          </a:p>
          <a:p>
            <a:pPr lvl="1" marL="752040" indent="-429480">
              <a:spcBef>
                <a:spcPts val="476"/>
              </a:spcBef>
              <a:buClr>
                <a:srgbClr val="0f5494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f5494"/>
                </a:solidFill>
                <a:latin typeface="Verdana"/>
              </a:rPr>
              <a:t>Vínculos entre las fuentes de financiación y los gastos ambientales, y potencial para aumentar los ingresos</a:t>
            </a:r>
            <a:endParaRPr b="1" lang="en-US" sz="1900" spc="-1" strike="noStrike">
              <a:solidFill>
                <a:srgbClr val="0f5494"/>
              </a:solidFill>
              <a:latin typeface="Verdana"/>
            </a:endParaRPr>
          </a:p>
          <a:p>
            <a:pPr lvl="1" marL="752040" indent="-429480">
              <a:spcBef>
                <a:spcPts val="476"/>
              </a:spcBef>
              <a:buClr>
                <a:srgbClr val="0f5494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f5494"/>
                </a:solidFill>
                <a:latin typeface="Verdana"/>
              </a:rPr>
              <a:t>Capacidad institucional para la gestión y planificación medioambiental</a:t>
            </a:r>
            <a:endParaRPr b="1" lang="en-US" sz="1900" spc="-1" strike="noStrike">
              <a:solidFill>
                <a:srgbClr val="0f5494"/>
              </a:solidFill>
              <a:latin typeface="Verdana"/>
            </a:endParaRPr>
          </a:p>
          <a:p>
            <a:pPr lvl="1" marL="752040" indent="-429480">
              <a:spcBef>
                <a:spcPts val="476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3597B-ECB4-4E62-890F-680368F47E9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2" name="Rounded Rectangle 4"/>
          <p:cNvSpPr/>
          <p:nvPr/>
        </p:nvSpPr>
        <p:spPr>
          <a:xfrm>
            <a:off x="4427640" y="620640"/>
            <a:ext cx="4716360" cy="83844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2060"/>
                </a:solidFill>
                <a:latin typeface="Verdana"/>
              </a:rPr>
              <a:t>Una forma de evaluación sistemática de la equidad, eficiencia y eficacia del gasto público ambiental. (Markandya </a:t>
            </a:r>
            <a:r>
              <a:rPr b="0" i="1" lang="en-GB" sz="1400" spc="-1" strike="noStrike">
                <a:solidFill>
                  <a:srgbClr val="002060"/>
                </a:solidFill>
                <a:latin typeface="Verdana"/>
              </a:rPr>
              <a:t>et al</a:t>
            </a:r>
            <a:r>
              <a:rPr b="0" lang="en-GB" sz="1400" spc="-1" strike="noStrike">
                <a:solidFill>
                  <a:srgbClr val="002060"/>
                </a:solidFill>
                <a:latin typeface="Verdana"/>
              </a:rPr>
              <a:t>, 2006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3" name="TextBox 3"/>
          <p:cNvSpPr/>
          <p:nvPr/>
        </p:nvSpPr>
        <p:spPr>
          <a:xfrm>
            <a:off x="3733920" y="6550200"/>
            <a:ext cx="487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Fuente: (Markandya </a:t>
            </a:r>
            <a:r>
              <a:rPr b="0" i="1" lang="en-GB" sz="1400" spc="-1" strike="noStrike">
                <a:solidFill>
                  <a:srgbClr val="0f5494"/>
                </a:solidFill>
                <a:latin typeface="Verdana"/>
              </a:rPr>
              <a:t>et al</a:t>
            </a: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, 2006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3" descr="Rwanda PEER 2013.jpg"/>
          <p:cNvPicPr/>
          <p:nvPr/>
        </p:nvPicPr>
        <p:blipFill>
          <a:blip r:embed="rId1"/>
          <a:stretch/>
        </p:blipFill>
        <p:spPr>
          <a:xfrm>
            <a:off x="6438960" y="-27000"/>
            <a:ext cx="2741400" cy="364500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Ejemplo de RGPA: Rwanda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241200" y="2420640"/>
            <a:ext cx="829152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RGPA de 2009: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653760" indent="-25128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Se identificaron pocos gastos ambientale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653760" indent="-25128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Se recomendó una mayor asignación de recursos del MINECOFIN para el sector de RNMA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01680" indent="-3016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Revisión del Gasto Público de 2013 para Medio Ambiente y Cambio Climático 2008-2012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653760" indent="-25128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Desde 2004, el gasto relativo al medio ambiente y al cambio climático pasó del 0,4% al 2,5%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653760" indent="-25128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El MINECOFIN volvió a introducir un anexo sobre el medio ambiente y el cambio climático en la Circular Nacional de Convocatoria de Presupuesto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250920" y="2491920"/>
            <a:ext cx="8534160" cy="2210040"/>
          </a:xfrm>
          <a:prstGeom prst="rect">
            <a:avLst/>
          </a:prstGeom>
          <a:gradFill rotWithShape="0">
            <a:gsLst>
              <a:gs pos="0">
                <a:srgbClr val="afe0e4"/>
              </a:gs>
              <a:gs pos="100000">
                <a:srgbClr val="85aaad"/>
              </a:gs>
            </a:gsLst>
            <a:lin ang="5400000"/>
          </a:gradFill>
          <a:ln w="93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marL="343080" indent="-343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f5494"/>
                </a:solidFill>
                <a:latin typeface="Verdana"/>
              </a:rPr>
              <a:t>Implicaciones de políticas y medidas relativas al medio ambiente y al clima para ingresos y gastos públicos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8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14651-A643-426E-81C7-B4C680D0A24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229600" cy="98100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Revisión Institucional y del Gasto Público Climático (RIGPC)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-360" y="1483920"/>
            <a:ext cx="6248520" cy="38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Herramienta del PNUD que actualmente se está probando en los países de la región de Asia y el Pacífico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291600" indent="-291600"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Revisión: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631440" indent="-242640">
              <a:spcBef>
                <a:spcPts val="1199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Cómo se reflejaron los objetivos de la política nacional de cambio climático en los gastos públicos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631440" indent="-242640">
              <a:spcBef>
                <a:spcPts val="1199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Cómo podrían ajustarse las instituciones para garantizar que la financiación de una respuesta al cambio climático se ofrecza de forma coherente por parte de las diferentes instituciones de gobierno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291600" indent="-2916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7740720" y="6245280"/>
            <a:ext cx="946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7EB55-7DFE-4AFF-8D27-6805FB23AC2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200" name="Picture 6" descr="CPEIR Nepal cover.png"/>
          <p:cNvPicPr/>
          <p:nvPr/>
        </p:nvPicPr>
        <p:blipFill>
          <a:blip r:embed="rId1"/>
          <a:stretch/>
        </p:blipFill>
        <p:spPr>
          <a:xfrm>
            <a:off x="6629400" y="1295280"/>
            <a:ext cx="2197080" cy="266724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7" descr="Thailand CPEIR cover.png"/>
          <p:cNvPicPr/>
          <p:nvPr/>
        </p:nvPicPr>
        <p:blipFill>
          <a:blip r:embed="rId2"/>
          <a:stretch/>
        </p:blipFill>
        <p:spPr>
          <a:xfrm>
            <a:off x="6372360" y="4187880"/>
            <a:ext cx="1885680" cy="26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769240" cy="98100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Verdana"/>
              </a:rPr>
              <a:t>Puntos de entrada para la integración de aspectos relativos al clima en una RGP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324000" y="1265400"/>
          <a:ext cx="8534160" cy="5187960"/>
        </p:xfrm>
        <a:graphic>
          <a:graphicData uri="http://schemas.openxmlformats.org/drawingml/2006/table">
            <a:tbl>
              <a:tblPr/>
              <a:tblGrid>
                <a:gridCol w="1871640"/>
                <a:gridCol w="6662520"/>
              </a:tblGrid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pecto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uestiones a tener en cuenta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</a:tr>
              <a:tr h="914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so de planificación presupuestaria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9e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pel de las consideraciones climáticas en las decisiones de asignación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9e2"/>
                    </a:solidFill>
                  </a:tcPr>
                </a:tc>
              </a:tr>
              <a:tr h="2089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ndencias y categorías de gastos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d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sto real en </a:t>
                      </a:r>
                      <a:r>
                        <a:rPr b="0" i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s.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signaciones a: </a:t>
                      </a:r>
                      <a:br>
                        <a:rPr sz="1800"/>
                      </a:b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medidas favorables a la adaptación y mitigación 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programas de desarrollo que se centran en la gestión de riesgos climáticos, el desarrollo resiliente al clima/de bajas emisiones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ponibilidad de financiación recurrente </a:t>
                      </a:r>
                      <a:r>
                        <a:rPr b="0" i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s.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nversión de capital para la gestión y el monitoreo del riesgo climático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df1"/>
                    </a:solidFill>
                  </a:tcPr>
                </a:tc>
              </a:tr>
              <a:tr h="1812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nciación presupuestaria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9e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vel y tendencias en las asignaciones a sectores y organismos relacionados con el clima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igen de dichas asignaciones (financiación interna </a:t>
                      </a:r>
                      <a:r>
                        <a:rPr b="0" i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s.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externa)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ibilidad de aumentar los recursos para un desarrollo resiliente al clima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9e2"/>
                    </a:solidFill>
                  </a:tcPr>
                </a:tc>
              </a:tr>
            </a:tbl>
          </a:graphicData>
        </a:graphic>
      </p:graphicFrame>
      <p:sp>
        <p:nvSpPr>
          <p:cNvPr id="204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98253-4B52-402A-AD0A-96C7B3F01A8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5" name="TextBox 3"/>
          <p:cNvSpPr/>
          <p:nvPr/>
        </p:nvSpPr>
        <p:spPr>
          <a:xfrm>
            <a:off x="3564000" y="6381720"/>
            <a:ext cx="559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Fuentes: UNDP-UNEP (2011), Banco Mundial (n.d.) GN4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134136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Las herramientas de sensibilización como complemento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6840" y="2565360"/>
            <a:ext cx="8534520" cy="421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Las conclusiones de las revisiones del gasto público (RGP, RGPA, RIGPC) pueden complementarse con herramientas de </a:t>
            </a:r>
            <a:r>
              <a:rPr b="0" lang="ja-JP" sz="2400" spc="-1" strike="noStrike">
                <a:solidFill>
                  <a:srgbClr val="0f5494"/>
                </a:solidFill>
                <a:latin typeface="Verdana"/>
              </a:rPr>
              <a:t>‘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sensibilización</a:t>
            </a:r>
            <a:r>
              <a:rPr b="0" lang="ja-JP" sz="2400" spc="-1" strike="noStrike">
                <a:solidFill>
                  <a:srgbClr val="0f5494"/>
                </a:solidFill>
                <a:latin typeface="Verdana"/>
              </a:rPr>
              <a:t>’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 que informen sobre el procedimiento presupuestario, como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Análisis económico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Estrategia de comunicación y promoción y plan de trabajo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5EED1-1CB2-4944-AF38-75801FCB8FD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Contabilidad medioambiental y sobre las limitaciones del PIB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2492280"/>
            <a:ext cx="8229600" cy="16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Indicadores disponible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p.ej., ahorro neto ajustado, indicadores de desarrollo sostenible, indicadores de crecimiento verde, índice de desarrollo humano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211" name="Picture 6" descr="beyond gdp.jpg"/>
          <p:cNvPicPr/>
          <p:nvPr/>
        </p:nvPicPr>
        <p:blipFill>
          <a:blip r:embed="rId1"/>
          <a:stretch/>
        </p:blipFill>
        <p:spPr>
          <a:xfrm>
            <a:off x="1692360" y="3933720"/>
            <a:ext cx="5413320" cy="2590920"/>
          </a:xfrm>
          <a:prstGeom prst="rect">
            <a:avLst/>
          </a:prstGeom>
          <a:ln w="0">
            <a:noFill/>
          </a:ln>
        </p:spPr>
      </p:pic>
      <p:sp>
        <p:nvSpPr>
          <p:cNvPr id="212" name="TextBox 3"/>
          <p:cNvSpPr/>
          <p:nvPr/>
        </p:nvSpPr>
        <p:spPr>
          <a:xfrm>
            <a:off x="5076720" y="6381720"/>
            <a:ext cx="4097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Fuente: http://ec.europa.eu/environment/beyond_gdp/indicators_en.html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9528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Sistema de Contabilidad Ambiental y Económica Integrada (SCAEI)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24000" y="2276640"/>
            <a:ext cx="836280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Marco central del SCAEI - norma internacional de UNSC (2012)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298440" indent="-2984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Registra: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646200" indent="-24840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Flujos de materia prima del medio ambiente a la economía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646200" indent="-24840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Intercambios de estos materiales dentro de la economía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646200" indent="-24840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Regresos de residuos y contaminantes al medio ambiente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298440" indent="-2984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WAVES (Contabilidad de la Riqueza y Valoración de Servicios Ecosistémicos)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646200" indent="-24840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Asociación global auspiciada por el Banco Mundial para integrar la contabilidad de capital natural en el sistema de contabilidad nacional y la planificación del desarrollo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Pasar a la acción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2060280"/>
            <a:ext cx="8153280" cy="44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Integrar el medio ambiente y el cambio climático en el proceso presupuestario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Uso de Revisiones de Gasto Público (RGP), Revisiones de Gasto Público Ambiental (RGPA) y Revisiones Institucionales y de Gasto Público Climático (RIGPC)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6B2B6-7CD2-423B-894A-3E77923325B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8" name="Rounded Rectangle 4"/>
          <p:cNvSpPr/>
          <p:nvPr/>
        </p:nvSpPr>
        <p:spPr>
          <a:xfrm>
            <a:off x="1908000" y="4724280"/>
            <a:ext cx="5410440" cy="180036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Verdana"/>
              </a:rPr>
              <a:t>¿Qué puede hacerse y cuáles son las necesidades institucionales y de capacidades en su organización? 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324000" y="2349000"/>
            <a:ext cx="8534160" cy="1676520"/>
          </a:xfrm>
          <a:prstGeom prst="rect">
            <a:avLst/>
          </a:prstGeom>
          <a:gradFill rotWithShape="0">
            <a:gsLst>
              <a:gs pos="0">
                <a:srgbClr val="afe0e4"/>
              </a:gs>
              <a:gs pos="100000">
                <a:srgbClr val="85aaad"/>
              </a:gs>
            </a:gsLst>
            <a:lin ang="5400000"/>
          </a:gradFill>
          <a:ln w="93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marL="343080" indent="-343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f5494"/>
                </a:solidFill>
                <a:latin typeface="Verdana"/>
              </a:rPr>
              <a:t>Recursos externos para la financiación relativa al medio ambiente y  al cambio climático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0" name="TextBox 2"/>
          <p:cNvSpPr/>
          <p:nvPr/>
        </p:nvSpPr>
        <p:spPr>
          <a:xfrm>
            <a:off x="2133720" y="4459320"/>
            <a:ext cx="685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Principales fuentes: </a:t>
            </a:r>
            <a:r>
              <a:rPr b="0" lang="en-GB" sz="1600" spc="-1" strike="noStrike">
                <a:solidFill>
                  <a:srgbClr val="c00000"/>
                </a:solidFill>
                <a:latin typeface="Verdana"/>
              </a:rPr>
              <a:t>www.climatefundsupdate.org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, UNDP-UNEP (2011)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A51E0-B732-4569-8C40-065DE76B6CA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820000" cy="98100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Principales fuentes de financiación externa para el cambio climático (1)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0D424-96D5-43F6-9D92-150F7303EC4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0" y="1341360"/>
          <a:ext cx="9144000" cy="5999400"/>
        </p:xfrm>
        <a:graphic>
          <a:graphicData uri="http://schemas.openxmlformats.org/drawingml/2006/table">
            <a:tbl>
              <a:tblPr/>
              <a:tblGrid>
                <a:gridCol w="4102200"/>
                <a:gridCol w="5041800"/>
              </a:tblGrid>
              <a:tr h="390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uente de financiación</a:t>
                      </a:r>
                      <a:endParaRPr b="0" lang="en-US" sz="17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ctividades respaldadas</a:t>
                      </a:r>
                      <a:endParaRPr b="0" lang="en-US" sz="17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sarrollo de programas de cooperación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daptación y mitigación centradas en el desarrollo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ondo para los Países Menos Adelantado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eparación e implementación de NAPA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822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ondo Especial para el Cambio Climático 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daptación (objetivo prioritario), transferencias de tecnologías, mitigación en sectores de alto potencial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</a:tr>
              <a:tr h="8240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Ámbito de interés relacionado con el cambio climático del Fondo Fiduciario del FMAM (GEF)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yectos de mitigación, proyectos de demostración de adaptación y 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‘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tividades de apoyo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’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822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ondo de Adaptación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yectos y programas que reducen la vulnerabilidad de las comunidades y sectores con respecto al cambio climático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ondo Verde para el Clima</a:t>
                      </a:r>
                      <a:br>
                        <a:rPr sz="1600"/>
                      </a:b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operaciones aún por comenzar)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al para la financiación multilateral futura de la adaptación y mitigación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ondo de Tecnologías Limpias 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mostración, despliegue y transferencia de tecnologías de bajas emisiones 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</a:tr>
              <a:tr h="822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ondo Estratégico sobre Clima (FEC) - Programa piloto para la resiliencia climática 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egración de la resiliencia y el riesgo climáticos en la planificación de desarrollo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820000" cy="98100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Principales fuentes de financiación externa para el cambio climático (2)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C572A-6593-4170-8BDF-0E808A12365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539640" y="1413000"/>
          <a:ext cx="8153640" cy="4841640"/>
        </p:xfrm>
        <a:graphic>
          <a:graphicData uri="http://schemas.openxmlformats.org/drawingml/2006/table">
            <a:tbl>
              <a:tblPr/>
              <a:tblGrid>
                <a:gridCol w="3657600"/>
                <a:gridCol w="4496040"/>
              </a:tblGrid>
              <a:tr h="390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uente de financiación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ctividades respaldada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CF- Programa de inversión forestal 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DD- Actividades relacionadas, gestión forestal sostenible 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</a:tr>
              <a:tr h="822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CF - Programa de promoción de las energías renovables en países de renta baja 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spliegue de fuentes de energía renovable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inanciamiento rápido (Fast Start Finance) (acabado en 2012)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didas de adaptación y mitigación en países en vías de desarrollo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</a:tr>
              <a:tr h="1311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DD+ (diversas corrientes de financiación, incl. UN-REDD, que promueve la integración de estrategias REDD en el desarrollo nacional)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eparación, implementación piloto y despliegue de estrategias nacionales para reducir las emisiones producidas por la deforestación/degradación forestal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ondo Prototipo de Carbono 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nfoques pioneros para la mitigación que contribuyen al desarrollo sostenible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ondo del BioCarbon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yectos de captación de carbono en bosques y agroecosistema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820000" cy="98100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Principales fuentes de financiación externa para el cambio climático (3)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11DC9-317E-4123-AB07-AC8A7B8F24A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0" y="1052640"/>
          <a:ext cx="9144000" cy="5575320"/>
        </p:xfrm>
        <a:graphic>
          <a:graphicData uri="http://schemas.openxmlformats.org/drawingml/2006/table">
            <a:tbl>
              <a:tblPr/>
              <a:tblGrid>
                <a:gridCol w="3672000"/>
                <a:gridCol w="5472000"/>
              </a:tblGrid>
              <a:tr h="390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uente de financiación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ctividades respaldada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</a:tr>
              <a:tr h="9050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ondo Cooperativo para el Carbono de los Bosques  (Forest Carbon Partnership Facility)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eparación de estrategias REDD nacionales, transferencias financieras piloto basadas en reducciones de emisiones comprobadas de REDD 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ondo Cooperativo para el Carbono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yectos de mitigación a largo plazo y a partir de 2012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822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ondo mundial para la eficiencia energética y las energías renovables  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yectos relacionados con la eficiencia energética y las fuentes de energía renovabl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</a:tr>
              <a:tr h="1119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ianza Mundial contra el Cambio Climático 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egración del cambio climático en estrategias nacionales de desarrollo y reducción de la pobreza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daptación, RRD, participación en REDD/MDL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9363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ondo para el logro de los ODM, ámbito temático de 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‘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dio ambiente y cambio climático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’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egración de cuestiones ambientales en políticas nacionales y subnacionales, marcos de planificación e inversión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</a:tr>
              <a:tr h="4320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canismo de Desarrollo Limpio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yectos de mitigación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390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rcados voluntarios de carbono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yectos de mitigación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Implicaciones de la integración por el lado de los ingreso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0" name="TextBox 4"/>
          <p:cNvSpPr/>
          <p:nvPr/>
        </p:nvSpPr>
        <p:spPr>
          <a:xfrm>
            <a:off x="4381560" y="3336840"/>
            <a:ext cx="380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Verdana"/>
              </a:rPr>
              <a:t>I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Verdana"/>
              </a:rPr>
              <a:t>N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Verdana"/>
              </a:rPr>
              <a:t>G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Verdana"/>
              </a:rPr>
              <a:t>E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Verdana"/>
              </a:rPr>
              <a:t>S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Verdana"/>
              </a:rPr>
              <a:t>O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Verdana"/>
              </a:rPr>
              <a:t>S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1" name="Slide Number Placeholder 8"/>
          <p:cNvSpPr/>
          <p:nvPr/>
        </p:nvSpPr>
        <p:spPr>
          <a:xfrm>
            <a:off x="6804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0B6F5-9FDD-42FD-B9F1-77C24A48373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2" name="Straight Connector 12"/>
          <p:cNvSpPr/>
          <p:nvPr/>
        </p:nvSpPr>
        <p:spPr>
          <a:xfrm>
            <a:off x="533520" y="4327560"/>
            <a:ext cx="8076960" cy="0"/>
          </a:xfrm>
          <a:prstGeom prst="line">
            <a:avLst/>
          </a:prstGeom>
          <a:ln w="5724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3" name="TextBox 13"/>
          <p:cNvSpPr/>
          <p:nvPr/>
        </p:nvSpPr>
        <p:spPr>
          <a:xfrm>
            <a:off x="6875640" y="443700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Ingreso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4" name="TextBox 14"/>
          <p:cNvSpPr/>
          <p:nvPr/>
        </p:nvSpPr>
        <p:spPr>
          <a:xfrm>
            <a:off x="228600" y="3865680"/>
            <a:ext cx="533520" cy="459720"/>
          </a:xfrm>
          <a:prstGeom prst="rect">
            <a:avLst/>
          </a:prstGeom>
          <a:solidFill>
            <a:srgbClr val="a3a3e0"/>
          </a:solidFill>
          <a:ln w="381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2060"/>
                </a:solidFill>
                <a:latin typeface="Verdana"/>
              </a:rPr>
              <a:t>+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5" name="TextBox 15"/>
          <p:cNvSpPr/>
          <p:nvPr/>
        </p:nvSpPr>
        <p:spPr>
          <a:xfrm>
            <a:off x="228600" y="4327560"/>
            <a:ext cx="533520" cy="459720"/>
          </a:xfrm>
          <a:prstGeom prst="rect">
            <a:avLst/>
          </a:prstGeom>
          <a:solidFill>
            <a:srgbClr val="f0f8f9"/>
          </a:solidFill>
          <a:ln w="381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2060"/>
                </a:solidFill>
                <a:latin typeface="Verdana"/>
              </a:rPr>
              <a:t>-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6" name="TextBox 17"/>
          <p:cNvSpPr/>
          <p:nvPr/>
        </p:nvSpPr>
        <p:spPr>
          <a:xfrm>
            <a:off x="2340000" y="2485080"/>
            <a:ext cx="2143080" cy="1798920"/>
          </a:xfrm>
          <a:prstGeom prst="rect">
            <a:avLst/>
          </a:prstGeom>
          <a:solidFill>
            <a:srgbClr val="92d050"/>
          </a:solidFill>
          <a:ln w="381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2060"/>
                </a:solidFill>
                <a:latin typeface="Verdana"/>
              </a:rPr>
              <a:t>Impuestos sobre las actividades económicas relativas a las medidas ambientales y de adaptación y mitigación al cambio climático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7" name="TextBox 18"/>
          <p:cNvSpPr/>
          <p:nvPr/>
        </p:nvSpPr>
        <p:spPr>
          <a:xfrm>
            <a:off x="4643280" y="2822040"/>
            <a:ext cx="1914840" cy="1372680"/>
          </a:xfrm>
          <a:prstGeom prst="rect">
            <a:avLst/>
          </a:prstGeom>
          <a:solidFill>
            <a:srgbClr val="92d050"/>
          </a:solidFill>
          <a:ln w="381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2060"/>
                </a:solidFill>
                <a:latin typeface="Verdana"/>
              </a:rPr>
              <a:t>Subvenciones extranjeras y otras transferencias financieras relativas al medio ambiente y al cambio climático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6659640" y="3146040"/>
            <a:ext cx="1944720" cy="1159560"/>
          </a:xfrm>
          <a:prstGeom prst="rect">
            <a:avLst/>
          </a:prstGeom>
          <a:solidFill>
            <a:srgbClr val="92d050"/>
          </a:solidFill>
          <a:ln w="381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2060"/>
                </a:solidFill>
                <a:latin typeface="Verdana"/>
              </a:rPr>
              <a:t>Efectos del crecimiento derivados de una mayor competitividad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9" name="TextBox 20"/>
          <p:cNvSpPr/>
          <p:nvPr/>
        </p:nvSpPr>
        <p:spPr>
          <a:xfrm>
            <a:off x="2268360" y="4372920"/>
            <a:ext cx="2286000" cy="15858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2060"/>
                </a:solidFill>
                <a:latin typeface="Verdana"/>
              </a:rPr>
              <a:t>Menores impuestos sobre las actividades que se contraen o que no se desarrollan debido a las políticas medioambientales y/o de cambio climático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0" name="TextBox 21"/>
          <p:cNvSpPr/>
          <p:nvPr/>
        </p:nvSpPr>
        <p:spPr>
          <a:xfrm>
            <a:off x="826920" y="1683000"/>
            <a:ext cx="3733920" cy="520200"/>
          </a:xfrm>
          <a:prstGeom prst="rect">
            <a:avLst/>
          </a:prstGeom>
          <a:solidFill>
            <a:srgbClr val="92d050"/>
          </a:solidFill>
          <a:ln w="381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2060"/>
                </a:solidFill>
                <a:latin typeface="Verdana"/>
              </a:rPr>
              <a:t>Reforma Fiscal Ambiental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2060"/>
                </a:solidFill>
                <a:latin typeface="Verdana"/>
              </a:rPr>
              <a:t>Pago por servicios medioambientale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1" name="TextBox 22"/>
          <p:cNvSpPr/>
          <p:nvPr/>
        </p:nvSpPr>
        <p:spPr>
          <a:xfrm>
            <a:off x="826920" y="2485080"/>
            <a:ext cx="1359000" cy="1798920"/>
          </a:xfrm>
          <a:prstGeom prst="rect">
            <a:avLst/>
          </a:prstGeom>
          <a:solidFill>
            <a:srgbClr val="92d050"/>
          </a:solidFill>
          <a:ln w="381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2060"/>
                </a:solidFill>
                <a:latin typeface="Verdana"/>
              </a:rPr>
              <a:t>Impuestos sobre el carbono/aplicados sobre actividades contaminantes y de altas emisione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Mecanismos de mercado para la mitigación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24000" y="2133720"/>
            <a:ext cx="822960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Mecanismos de mercado para la mitigación bajo el Protocolo de Kyoto: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668520" indent="-257040">
              <a:spcBef>
                <a:spcPts val="451"/>
              </a:spcBef>
              <a:spcAft>
                <a:spcPts val="601"/>
              </a:spcAft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Mecanismo de Desarrollo Limpio (MDL)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668520" indent="-257040">
              <a:spcBef>
                <a:spcPts val="451"/>
              </a:spcBef>
              <a:spcAft>
                <a:spcPts val="601"/>
              </a:spcAft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Implementación Conjunta (IC)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668520" indent="-257040">
              <a:spcBef>
                <a:spcPts val="451"/>
              </a:spcBef>
              <a:spcAft>
                <a:spcPts val="601"/>
              </a:spcAft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Participación ínfima de la región ACP en el MDL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08520" indent="-30852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¿Futuro de los mecanismos en el período posterior a Kyoto?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668520" indent="-257040">
              <a:spcBef>
                <a:spcPts val="451"/>
              </a:spcBef>
              <a:spcAft>
                <a:spcPts val="601"/>
              </a:spcAft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Probable continuidad del MDL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668520" indent="-257040">
              <a:spcBef>
                <a:spcPts val="451"/>
              </a:spcBef>
              <a:spcAft>
                <a:spcPts val="601"/>
              </a:spcAft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Nuevos mecanismos de mercado (NMM)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668520" indent="-257040">
              <a:spcBef>
                <a:spcPts val="451"/>
              </a:spcBef>
              <a:spcAft>
                <a:spcPts val="601"/>
              </a:spcAft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Marco para Varios Enfoques (MVE)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668520" indent="-257040">
              <a:spcBef>
                <a:spcPts val="451"/>
              </a:spcBef>
              <a:spcAft>
                <a:spcPts val="601"/>
              </a:spcAft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Integración potencial de NAMAs y REDD+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B8262-356F-4F0A-82C1-B094DBF6096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0" y="1125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Oportunidades: Programas de Actividades del MDL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304920" y="2133720"/>
            <a:ext cx="85341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Reagrupación en paquetes de proyectos de compensación de emisiones de carbono a pequeña escala en un único programa del MD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Ejemplo: Cocinas mejoradas para África Oriental (ICSEA)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Uganda, Kenia, Burundi, Rwanda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Reduce 40.000 TCO</a:t>
            </a:r>
            <a:r>
              <a:rPr b="0" lang="en-GB" sz="2000" spc="-1" strike="noStrike" baseline="-25000">
                <a:solidFill>
                  <a:srgbClr val="0f5494"/>
                </a:solidFill>
                <a:latin typeface="Verdana"/>
              </a:rPr>
              <a:t>2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 al año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Prestaciones en mitigación, salud e igualdad de género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Neutro desde el punto de vista tecnológico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Enfoque de comercio justo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74D9E-E679-4C2E-AC6E-B31CC7DE29E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0" y="981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Mercado voluntario de carbono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250920" y="1915920"/>
            <a:ext cx="8534160" cy="44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Actualmente, los precios son más altos en el mercado voluntario que en el obligatorio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Diferentes opciones de certificación, por ejemplo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1B910-C2CE-4420-9BA4-18BE7E25E85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240" name="Picture 4" descr="logo VCS.png"/>
          <p:cNvPicPr/>
          <p:nvPr/>
        </p:nvPicPr>
        <p:blipFill>
          <a:blip r:embed="rId1"/>
          <a:stretch/>
        </p:blipFill>
        <p:spPr>
          <a:xfrm>
            <a:off x="685800" y="3429000"/>
            <a:ext cx="2755800" cy="87624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5" descr="logo socialcarbon.png"/>
          <p:cNvPicPr/>
          <p:nvPr/>
        </p:nvPicPr>
        <p:blipFill>
          <a:blip r:embed="rId2"/>
          <a:stretch/>
        </p:blipFill>
        <p:spPr>
          <a:xfrm>
            <a:off x="4495680" y="5029200"/>
            <a:ext cx="4102200" cy="71136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6" descr="logo gold standard.jpg"/>
          <p:cNvPicPr/>
          <p:nvPr/>
        </p:nvPicPr>
        <p:blipFill>
          <a:blip r:embed="rId3"/>
          <a:stretch/>
        </p:blipFill>
        <p:spPr>
          <a:xfrm>
            <a:off x="1066680" y="4495680"/>
            <a:ext cx="2113200" cy="21337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7" descr="logo CCB standard.jpg"/>
          <p:cNvPicPr/>
          <p:nvPr/>
        </p:nvPicPr>
        <p:blipFill>
          <a:blip r:embed="rId4"/>
          <a:stretch/>
        </p:blipFill>
        <p:spPr>
          <a:xfrm>
            <a:off x="4267080" y="3276720"/>
            <a:ext cx="457200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Transacciones en el mercado voluntario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4E306-2DBB-4627-B7DF-66EF31A1396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246" name="Picture 4" descr=""/>
          <p:cNvPicPr/>
          <p:nvPr/>
        </p:nvPicPr>
        <p:blipFill>
          <a:blip r:embed="rId1"/>
          <a:stretch/>
        </p:blipFill>
        <p:spPr>
          <a:xfrm>
            <a:off x="-7920" y="1219320"/>
            <a:ext cx="6942240" cy="5638680"/>
          </a:xfrm>
          <a:prstGeom prst="rect">
            <a:avLst/>
          </a:prstGeom>
          <a:ln w="0">
            <a:noFill/>
          </a:ln>
        </p:spPr>
      </p:pic>
      <p:sp>
        <p:nvSpPr>
          <p:cNvPr id="247" name="TextBox 3"/>
          <p:cNvSpPr/>
          <p:nvPr/>
        </p:nvSpPr>
        <p:spPr>
          <a:xfrm>
            <a:off x="4932360" y="6550200"/>
            <a:ext cx="394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Fuente: Tendencias forestales (2013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964720" cy="98100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Fuentes de financiación externa para el medio ambiente (1)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F5562-500C-4529-A74D-3A90A40F43E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0" y="1052640"/>
          <a:ext cx="9144000" cy="6121440"/>
        </p:xfrm>
        <a:graphic>
          <a:graphicData uri="http://schemas.openxmlformats.org/drawingml/2006/table">
            <a:tbl>
              <a:tblPr/>
              <a:tblGrid>
                <a:gridCol w="5299200"/>
                <a:gridCol w="3844800"/>
              </a:tblGrid>
              <a:tr h="390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uente de financiación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ctividades respaldada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ondo para el agua ACP-EU (finalizado)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uministro de agua y saneamiento básico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</a:tr>
              <a:tr h="22860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canismos de combinación de la UE: Fondo Fiduciario UE-África para Infraestructuras  (ITF); Fondo de Inversión para la Política de Vecindad (FIF); Mecanismo de Inversión en América Latina (LAIF); Mecanismo de Inversión en Asia Central (IFCA); Mecanismo de Inversión en Asia (AIF), Mecanismo de Inversión en el Caribe; Mecanismo de Inversión en el Pacífico 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fraestructura medioambiental, por ejemplo, agua y saneamiento, energía renovable, transporte sostenible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1066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ondo para el Medio Ambiente Mundial (FMAM) (GEF)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iodiversidad, cambio climático, aguas internacionales, degradación del suelo, la capa de ozono, COP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</a:tr>
              <a:tr h="17989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ondo Multilateral para la Implementación del Protocolo de Montreal (MLF)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tividades que se ajustan al Protocolo de Montreal sobre sustancias que agotan la capa de ozono, incluyendo la transformación industrial, la asistencia técnica, la formación y el desarrollo de capacidad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0" y="126828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Fuentes de financiación externa para el medio ambiente (2)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F4A15-98A4-45AD-8FBD-3CA160F74AE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468360" y="2637000"/>
          <a:ext cx="8153280" cy="3643200"/>
        </p:xfrm>
        <a:graphic>
          <a:graphicData uri="http://schemas.openxmlformats.org/drawingml/2006/table">
            <a:tbl>
              <a:tblPr/>
              <a:tblGrid>
                <a:gridCol w="4724280"/>
                <a:gridCol w="3429000"/>
              </a:tblGrid>
              <a:tr h="3888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uente de financiación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ctividades respaldada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</a:tr>
              <a:tr h="17985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ondo de Implementación del Protocolo de Nagoya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tividades que se ajustan a Protocolo de Nagoya sobre el acceso a los recursos genéticos y el reparto justo y equitativo de las ventajas que se derivan de la explotación de los mismos (para la CBD)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</a:tr>
              <a:tr h="1066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ondo Nórdico de Desarrollo Ambiental (FNDA)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versiones de producción más limpia, eficiencia energética, inversiones medioambientales en explotaciones agraria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389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tros fondos fiduciarios medioambiental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0" y="1341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Fuentes de información sobre la financiación relativa al clima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6836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www.climatefundsupdate.org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www.carbonfinance.org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C95B0-B8A7-44A0-810C-BA41D0C077D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0" y="105228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Apoyo presupuestario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68360" y="1916280"/>
            <a:ext cx="822960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La transferencia de recursos financieros de un organismo financiero externo a la agencia tributaria naciona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18960" indent="-31896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Ofrece otros recursos para el presupuesto naciona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690840" indent="-265680">
              <a:spcBef>
                <a:spcPts val="499"/>
              </a:spcBef>
              <a:spcAft>
                <a:spcPts val="601"/>
              </a:spcAft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ya sean subvenciones (por ejemplo, CE) o préstamos (por ejemplo, Banco Mundial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18960" indent="-31896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Los procedimientos nacionales se aplican a la asignación y al desembolso de fondo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690840" indent="-265680">
              <a:spcBef>
                <a:spcPts val="499"/>
              </a:spcBef>
              <a:spcAft>
                <a:spcPts val="601"/>
              </a:spcAft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implementación a través del sistema nacional de gestión pública financiera =&gt; menos costes de transacción, mayor apropiación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F550B-C2A9-48F0-BE9D-9F62FC99F17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98100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Apoyo presupuestario y oportunidades de integración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-360" y="134100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Condiciones generales de elegibilidad: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C2069-52F5-4903-8145-D102B7E6F43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3" name="Rounded Rectangle 4"/>
          <p:cNvSpPr/>
          <p:nvPr/>
        </p:nvSpPr>
        <p:spPr>
          <a:xfrm>
            <a:off x="723960" y="2209680"/>
            <a:ext cx="6224400" cy="1143000"/>
          </a:xfrm>
          <a:prstGeom prst="roundRect">
            <a:avLst>
              <a:gd name="adj" fmla="val 16667"/>
            </a:avLst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Existencia de una política/estrategia nacional o sectorial bien articulada en la que contribuirá la transferencia presupuestaria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4" name="Rounded Rectangle 5"/>
          <p:cNvSpPr/>
          <p:nvPr/>
        </p:nvSpPr>
        <p:spPr>
          <a:xfrm>
            <a:off x="762120" y="3505320"/>
            <a:ext cx="6186240" cy="838080"/>
          </a:xfrm>
          <a:prstGeom prst="roundRect">
            <a:avLst>
              <a:gd name="adj" fmla="val 16667"/>
            </a:avLst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Marco macroeconómico razonablemente estable</a:t>
            </a:r>
            <a:endParaRPr b="0" lang="en-US" sz="2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5" name="Rounded Rectangle 6"/>
          <p:cNvSpPr/>
          <p:nvPr/>
        </p:nvSpPr>
        <p:spPr>
          <a:xfrm>
            <a:off x="762120" y="4495680"/>
            <a:ext cx="6186240" cy="838440"/>
          </a:xfrm>
          <a:prstGeom prst="roundRect">
            <a:avLst>
              <a:gd name="adj" fmla="val 16667"/>
            </a:avLst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Gestión pública financiera fiable o mejorada</a:t>
            </a:r>
            <a:endParaRPr b="0" lang="en-US" sz="2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6" name="Rounded Rectangle 7"/>
          <p:cNvSpPr/>
          <p:nvPr/>
        </p:nvSpPr>
        <p:spPr>
          <a:xfrm>
            <a:off x="762120" y="5486400"/>
            <a:ext cx="6186240" cy="762120"/>
          </a:xfrm>
          <a:prstGeom prst="roundRect">
            <a:avLst>
              <a:gd name="adj" fmla="val 16667"/>
            </a:avLst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Transparencia y control del presupuesto</a:t>
            </a:r>
            <a:endParaRPr b="0" lang="en-US" sz="2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7" name="Rounded Rectangle 8"/>
          <p:cNvSpPr/>
          <p:nvPr/>
        </p:nvSpPr>
        <p:spPr>
          <a:xfrm>
            <a:off x="152280" y="2209680"/>
            <a:ext cx="419400" cy="1143000"/>
          </a:xfrm>
          <a:custGeom>
            <a:avLst/>
            <a:gdLst>
              <a:gd name="textAreaLeft" fmla="*/ 20160 w 419400"/>
              <a:gd name="textAreaRight" fmla="*/ 399240 w 419400"/>
              <a:gd name="textAreaTop" fmla="*/ 20160 h 1143000"/>
              <a:gd name="textAreaBottom" fmla="*/ 1122840 h 1143000"/>
            </a:gdLst>
            <a:ahLst/>
            <a:rect l="textAreaLeft" t="textAreaTop" r="textAreaRight" b="textAreaBottom"/>
            <a:pathLst>
              <a:path w="21600" h="58835">
                <a:moveTo>
                  <a:pt x="3600" y="0"/>
                </a:moveTo>
                <a:arcTo wR="3600" hR="3600" stAng="16200000" swAng="-5400000"/>
                <a:lnTo>
                  <a:pt x="0" y="55235"/>
                </a:lnTo>
                <a:arcTo wR="3600" hR="3600" stAng="10800000" swAng="-5400000"/>
                <a:lnTo>
                  <a:pt x="18000" y="5883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6666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1.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8" name="Rounded Rectangle 9"/>
          <p:cNvSpPr/>
          <p:nvPr/>
        </p:nvSpPr>
        <p:spPr>
          <a:xfrm>
            <a:off x="152280" y="3505320"/>
            <a:ext cx="457200" cy="838080"/>
          </a:xfrm>
          <a:custGeom>
            <a:avLst/>
            <a:gdLst>
              <a:gd name="textAreaLeft" fmla="*/ 22320 w 457200"/>
              <a:gd name="textAreaRight" fmla="*/ 434880 w 457200"/>
              <a:gd name="textAreaTop" fmla="*/ 22320 h 838080"/>
              <a:gd name="textAreaBottom" fmla="*/ 815760 h 838080"/>
            </a:gdLst>
            <a:ahLst/>
            <a:rect l="textAreaLeft" t="textAreaTop" r="textAreaRight" b="textAreaBottom"/>
            <a:pathLst>
              <a:path w="21600" h="39580">
                <a:moveTo>
                  <a:pt x="3600" y="0"/>
                </a:moveTo>
                <a:arcTo wR="3600" hR="3600" stAng="16200000" swAng="-5400000"/>
                <a:lnTo>
                  <a:pt x="0" y="35980"/>
                </a:lnTo>
                <a:arcTo wR="3600" hR="3600" stAng="10800000" swAng="-5400000"/>
                <a:lnTo>
                  <a:pt x="18000" y="3958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6666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2.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9" name="Rounded Rectangle 10"/>
          <p:cNvSpPr/>
          <p:nvPr/>
        </p:nvSpPr>
        <p:spPr>
          <a:xfrm>
            <a:off x="152280" y="4572000"/>
            <a:ext cx="457200" cy="762120"/>
          </a:xfrm>
          <a:custGeom>
            <a:avLst/>
            <a:gdLst>
              <a:gd name="textAreaLeft" fmla="*/ 22320 w 457200"/>
              <a:gd name="textAreaRight" fmla="*/ 434880 w 457200"/>
              <a:gd name="textAreaTop" fmla="*/ 22320 h 762120"/>
              <a:gd name="textAreaBottom" fmla="*/ 739800 h 762120"/>
            </a:gdLst>
            <a:ahLst/>
            <a:rect l="textAreaLeft" t="textAreaTop" r="textAreaRight" b="textAreaBottom"/>
            <a:pathLst>
              <a:path w="21600" h="35994">
                <a:moveTo>
                  <a:pt x="3600" y="0"/>
                </a:moveTo>
                <a:arcTo wR="3600" hR="3600" stAng="16200000" swAng="-5400000"/>
                <a:lnTo>
                  <a:pt x="0" y="32394"/>
                </a:lnTo>
                <a:arcTo wR="3600" hR="3600" stAng="10800000" swAng="-5400000"/>
                <a:lnTo>
                  <a:pt x="18000" y="359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6666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3.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0" name="Rounded Rectangle 11"/>
          <p:cNvSpPr/>
          <p:nvPr/>
        </p:nvSpPr>
        <p:spPr>
          <a:xfrm>
            <a:off x="152280" y="5486400"/>
            <a:ext cx="457200" cy="762120"/>
          </a:xfrm>
          <a:custGeom>
            <a:avLst/>
            <a:gdLst>
              <a:gd name="textAreaLeft" fmla="*/ 22320 w 457200"/>
              <a:gd name="textAreaRight" fmla="*/ 434880 w 457200"/>
              <a:gd name="textAreaTop" fmla="*/ 22320 h 762120"/>
              <a:gd name="textAreaBottom" fmla="*/ 739800 h 762120"/>
            </a:gdLst>
            <a:ahLst/>
            <a:rect l="textAreaLeft" t="textAreaTop" r="textAreaRight" b="textAreaBottom"/>
            <a:pathLst>
              <a:path w="21600" h="35994">
                <a:moveTo>
                  <a:pt x="3600" y="0"/>
                </a:moveTo>
                <a:arcTo wR="3600" hR="3600" stAng="16200000" swAng="-5400000"/>
                <a:lnTo>
                  <a:pt x="0" y="32394"/>
                </a:lnTo>
                <a:arcTo wR="3600" hR="3600" stAng="10800000" swAng="-5400000"/>
                <a:lnTo>
                  <a:pt x="18000" y="359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6666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4.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1" name="Rounded Rectangular Callout 12"/>
          <p:cNvSpPr/>
          <p:nvPr/>
        </p:nvSpPr>
        <p:spPr>
          <a:xfrm>
            <a:off x="5791320" y="838080"/>
            <a:ext cx="3244680" cy="914400"/>
          </a:xfrm>
          <a:prstGeom prst="wedgeRoundRectCallout">
            <a:avLst>
              <a:gd name="adj1" fmla="val -79578"/>
              <a:gd name="adj2" fmla="val 136231"/>
              <a:gd name="adj3" fmla="val 16667"/>
            </a:avLst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Sostenible desde un punto de vista medioambiental y resiliente al clima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2" name="Rounded Rectangular Callout 13"/>
          <p:cNvSpPr/>
          <p:nvPr/>
        </p:nvSpPr>
        <p:spPr>
          <a:xfrm>
            <a:off x="6781680" y="1828800"/>
            <a:ext cx="1600200" cy="685800"/>
          </a:xfrm>
          <a:prstGeom prst="wedgeRoundRectCallout">
            <a:avLst>
              <a:gd name="adj1" fmla="val -93180"/>
              <a:gd name="adj2" fmla="val 51574"/>
              <a:gd name="adj3" fmla="val 16667"/>
            </a:avLst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Uso potencial de EAE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3" name="Rounded Rectangular Callout 14"/>
          <p:cNvSpPr/>
          <p:nvPr/>
        </p:nvSpPr>
        <p:spPr>
          <a:xfrm>
            <a:off x="6858000" y="4267080"/>
            <a:ext cx="1905120" cy="609840"/>
          </a:xfrm>
          <a:prstGeom prst="wedgeRoundRectCallout">
            <a:avLst>
              <a:gd name="adj1" fmla="val -79578"/>
              <a:gd name="adj2" fmla="val 136231"/>
              <a:gd name="adj3" fmla="val 16667"/>
            </a:avLst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RGP, RGPA, RIGPC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0" y="126828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Apoyo presupuestario y oportunidades de integración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79280" y="2349360"/>
            <a:ext cx="8785440" cy="419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Inclusión de indicadores clave y/o indicadores relativos al medio ambiente o al cambio climático para el desembolso de: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300"/>
              </a:spcBef>
              <a:spcAft>
                <a:spcPts val="300"/>
              </a:spcAft>
              <a:buClr>
                <a:srgbClr val="3c8c9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c8c93"/>
                </a:solidFill>
                <a:latin typeface="Verdana"/>
              </a:rPr>
              <a:t>tramo fijo 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300"/>
              </a:spcBef>
              <a:spcAft>
                <a:spcPts val="300"/>
              </a:spcAft>
              <a:buClr>
                <a:srgbClr val="0f5494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(abonado al completo en la medida en que se mantengan las condiciones de elegibilidad)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300"/>
              </a:spcBef>
              <a:spcAft>
                <a:spcPts val="300"/>
              </a:spcAft>
              <a:buClr>
                <a:srgbClr val="3c8c9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c8c93"/>
                </a:solidFill>
                <a:latin typeface="Verdana"/>
              </a:rPr>
              <a:t>tramo variable  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300"/>
              </a:spcBef>
              <a:spcAft>
                <a:spcPts val="300"/>
              </a:spcAft>
              <a:buClr>
                <a:srgbClr val="0f5494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(abonado de forma total o parcial según el desempeño real con respecto a una serie acordada de criterios y objetivos)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300"/>
              </a:spcBef>
              <a:spcAft>
                <a:spcPts val="300"/>
              </a:spcAft>
              <a:buClr>
                <a:srgbClr val="0f5494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criterios/objetivos adoptados en principio del MED (PAF), asociados a la política o estrategia apoyada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300"/>
              </a:spcBef>
              <a:spcAft>
                <a:spcPts val="300"/>
              </a:spcAft>
              <a:buClr>
                <a:srgbClr val="0f5494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ofrece un incentivo de desempeño orientado a los resultado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3E88A-AD2F-4743-9EA4-C8BB5C774F9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569080" cy="98100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Implicaciones de la integración por el  lado de los gasto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3" name="TextBox 4"/>
          <p:cNvSpPr/>
          <p:nvPr/>
        </p:nvSpPr>
        <p:spPr>
          <a:xfrm>
            <a:off x="4305240" y="2895480"/>
            <a:ext cx="3812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Verdana"/>
              </a:rPr>
              <a:t>I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Verdana"/>
              </a:rPr>
              <a:t>N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Verdana"/>
              </a:rPr>
              <a:t>G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Verdana"/>
              </a:rPr>
              <a:t>E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Verdana"/>
              </a:rPr>
              <a:t>S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Verdana"/>
              </a:rPr>
              <a:t>O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Verdana"/>
              </a:rPr>
              <a:t>S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4" name="Slide Number Placeholder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85623-F81E-4DCF-920A-1B6F367C9E9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5" name="Straight Connector 12"/>
          <p:cNvSpPr/>
          <p:nvPr/>
        </p:nvSpPr>
        <p:spPr>
          <a:xfrm>
            <a:off x="457200" y="3886200"/>
            <a:ext cx="8077320" cy="0"/>
          </a:xfrm>
          <a:prstGeom prst="line">
            <a:avLst/>
          </a:prstGeom>
          <a:ln w="5724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7093080" y="3492360"/>
            <a:ext cx="19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Gasto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7" name="TextBox 14"/>
          <p:cNvSpPr/>
          <p:nvPr/>
        </p:nvSpPr>
        <p:spPr>
          <a:xfrm>
            <a:off x="152280" y="3424320"/>
            <a:ext cx="533520" cy="459720"/>
          </a:xfrm>
          <a:prstGeom prst="rect">
            <a:avLst/>
          </a:prstGeom>
          <a:solidFill>
            <a:srgbClr val="f0f8f9"/>
          </a:solidFill>
          <a:ln w="381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2060"/>
                </a:solidFill>
                <a:latin typeface="Verdana"/>
              </a:rPr>
              <a:t>+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8" name="TextBox 15"/>
          <p:cNvSpPr/>
          <p:nvPr/>
        </p:nvSpPr>
        <p:spPr>
          <a:xfrm>
            <a:off x="152280" y="3886200"/>
            <a:ext cx="533520" cy="459720"/>
          </a:xfrm>
          <a:prstGeom prst="rect">
            <a:avLst/>
          </a:prstGeom>
          <a:solidFill>
            <a:srgbClr val="a3a3e0"/>
          </a:solidFill>
          <a:ln w="381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2060"/>
                </a:solidFill>
                <a:latin typeface="Verdana"/>
              </a:rPr>
              <a:t>-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9" name="TextBox 16"/>
          <p:cNvSpPr/>
          <p:nvPr/>
        </p:nvSpPr>
        <p:spPr>
          <a:xfrm>
            <a:off x="762120" y="2298600"/>
            <a:ext cx="1865160" cy="1554120"/>
          </a:xfrm>
          <a:prstGeom prst="rect">
            <a:avLst/>
          </a:prstGeom>
          <a:solidFill>
            <a:srgbClr val="f0f8f9"/>
          </a:solidFill>
          <a:ln w="381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2060"/>
                </a:solidFill>
                <a:latin typeface="Verdana"/>
              </a:rPr>
              <a:t>Subvenciones para actividades ecológicas y en relación con la adaptación y mitigación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0" name="TextBox 17"/>
          <p:cNvSpPr/>
          <p:nvPr/>
        </p:nvSpPr>
        <p:spPr>
          <a:xfrm>
            <a:off x="2743200" y="2053800"/>
            <a:ext cx="2044800" cy="1797480"/>
          </a:xfrm>
          <a:prstGeom prst="rect">
            <a:avLst/>
          </a:prstGeom>
          <a:solidFill>
            <a:srgbClr val="f0f8f9"/>
          </a:solidFill>
          <a:ln w="381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2060"/>
                </a:solidFill>
                <a:latin typeface="Verdana"/>
              </a:rPr>
              <a:t>Gastos corrientes en relación con las medidas ambientales y de cambio climático (adaptación/mitigación) 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1" name="TextBox 18"/>
          <p:cNvSpPr/>
          <p:nvPr/>
        </p:nvSpPr>
        <p:spPr>
          <a:xfrm>
            <a:off x="4932360" y="2053080"/>
            <a:ext cx="2087640" cy="1798920"/>
          </a:xfrm>
          <a:prstGeom prst="rect">
            <a:avLst/>
          </a:prstGeom>
          <a:solidFill>
            <a:srgbClr val="f0f8f9"/>
          </a:solidFill>
          <a:ln w="381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2060"/>
                </a:solidFill>
                <a:latin typeface="Verdana"/>
              </a:rPr>
              <a:t>Inversión pública (gastos de capital) en infraestructuras relativas al medio ambiente y/o al cambio climático (adaptación/mitigación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2" name="TextBox 20"/>
          <p:cNvSpPr/>
          <p:nvPr/>
        </p:nvSpPr>
        <p:spPr>
          <a:xfrm>
            <a:off x="755640" y="3943440"/>
            <a:ext cx="1871640" cy="2040840"/>
          </a:xfrm>
          <a:prstGeom prst="rect">
            <a:avLst/>
          </a:prstGeom>
          <a:solidFill>
            <a:srgbClr val="92d050"/>
          </a:solidFill>
          <a:ln w="381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2060"/>
                </a:solidFill>
                <a:latin typeface="Verdana"/>
              </a:rPr>
              <a:t>Menores subvenciones en relación con el consumo de combustible y otras actividades de altas emisione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3" name="TextBox 21"/>
          <p:cNvSpPr/>
          <p:nvPr/>
        </p:nvSpPr>
        <p:spPr>
          <a:xfrm>
            <a:off x="4932360" y="3942720"/>
            <a:ext cx="2087640" cy="2012040"/>
          </a:xfrm>
          <a:prstGeom prst="rect">
            <a:avLst/>
          </a:prstGeom>
          <a:solidFill>
            <a:srgbClr val="92d050"/>
          </a:solidFill>
          <a:ln w="381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2060"/>
                </a:solidFill>
                <a:latin typeface="Verdana"/>
              </a:rPr>
              <a:t>Menor gasto en asistencia sanitaria, cambio de infraestructuras, etc., como resultado de una adaptación satisfactoria y la adopción de medidas medioambientale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4" name="TextBox 19"/>
          <p:cNvSpPr/>
          <p:nvPr/>
        </p:nvSpPr>
        <p:spPr>
          <a:xfrm>
            <a:off x="2771640" y="3940920"/>
            <a:ext cx="1981440" cy="1585800"/>
          </a:xfrm>
          <a:prstGeom prst="rect">
            <a:avLst/>
          </a:prstGeom>
          <a:solidFill>
            <a:srgbClr val="92d050"/>
          </a:solidFill>
          <a:ln w="381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2060"/>
                </a:solidFill>
                <a:latin typeface="Verdana"/>
              </a:rPr>
              <a:t>Eliminación de subvenciones "dañinas" que fomentan actividades perjudiciales para el medio ambiente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Indicadores de evaluación del desempeño sobre el cambio climático en Bután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De conformidad con la AMCC, se integró un Plan de Acción de Adaptación al Cambio Climático - Recursos Naturales Renovables en el Plan 11 de 5 años (2013-2018)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690840" indent="-26568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Las actividades incluyen un ejercicio presupuestario para las acciones de adaptación al cambio climático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690840" indent="-26568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Las condiciones para la liberación del tramo variable incluyen una </a:t>
            </a:r>
            <a:r>
              <a:rPr b="0" lang="ja-JP" sz="2000" spc="-1" strike="noStrike">
                <a:solidFill>
                  <a:srgbClr val="0f5494"/>
                </a:solidFill>
                <a:latin typeface="Verdana"/>
              </a:rPr>
              <a:t>‘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disposición de adaptación al cambio climático</a:t>
            </a:r>
            <a:r>
              <a:rPr b="0" lang="ja-JP" sz="2000" spc="-1" strike="noStrike">
                <a:solidFill>
                  <a:srgbClr val="0f5494"/>
                </a:solidFill>
                <a:latin typeface="Verdana"/>
              </a:rPr>
              <a:t>’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 del sistema de evaluación y monitoreo del sector de RNR y una mejora de los sistemas estadísticos de RNR para favorecer la recopilación fiable de datos relativos al clima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0" y="112536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Fondos medioambientales y climáticos nacional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179280" y="1988640"/>
            <a:ext cx="876312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Varios países han establecido un </a:t>
            </a:r>
            <a:r>
              <a:rPr b="0" lang="ja-JP" sz="2400" spc="-1" strike="noStrike">
                <a:solidFill>
                  <a:srgbClr val="0f5494"/>
                </a:solidFill>
                <a:latin typeface="Verdana"/>
              </a:rPr>
              <a:t>‘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fondo climático nacional</a:t>
            </a:r>
            <a:r>
              <a:rPr b="0" lang="ja-JP" sz="2400" spc="-1" strike="noStrike">
                <a:solidFill>
                  <a:srgbClr val="0f5494"/>
                </a:solidFill>
                <a:latin typeface="Verdana"/>
              </a:rPr>
              <a:t>’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 y/o un </a:t>
            </a:r>
            <a:r>
              <a:rPr b="0" lang="ja-JP" sz="2400" spc="-1" strike="noStrike">
                <a:solidFill>
                  <a:srgbClr val="0f5494"/>
                </a:solidFill>
                <a:latin typeface="Verdana"/>
              </a:rPr>
              <a:t>‘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fondo fiduciario ambiental</a:t>
            </a:r>
            <a:r>
              <a:rPr b="0" lang="ja-JP" sz="2400" spc="-1" strike="noStrike">
                <a:solidFill>
                  <a:srgbClr val="0f5494"/>
                </a:solidFill>
                <a:latin typeface="Verdana"/>
              </a:rPr>
              <a:t>’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 para: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676080" indent="-259920">
              <a:spcBef>
                <a:spcPts val="499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Canalizar y gestionar la financiación externa relativa al cambio climático y al medio ambiente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676080" indent="-259920">
              <a:spcBef>
                <a:spcPts val="499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Aprovechar los fondos y las iniciativas existentes (incl. los financiados con recursos nacionales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676080" indent="-259920">
              <a:spcBef>
                <a:spcPts val="499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Apoyar la integración en estrategias nacionales de desarrollo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Beneficios previstos: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676080" indent="-259920">
              <a:spcBef>
                <a:spcPts val="499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Armonización de financiación externa con prioridades nacionale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676080" indent="-259920">
              <a:spcBef>
                <a:spcPts val="499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Desarrollo de capacidades e instituciones nacionale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676080" indent="-259920">
              <a:spcBef>
                <a:spcPts val="499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Ampliación de la respuesta ante los retos medioambientales y climático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492D2-23C1-4706-8B5F-FB0DEA18CD1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5092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Pasar a la acción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56840" y="2205000"/>
            <a:ext cx="7924680" cy="43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Promover la integración a través de procesos presupuestarios nacionale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Utilizar el apoyo presupuestario (CE) para impulsar la integración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0459D-C8CC-45F0-BDB5-A3AC1CFD898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5" name="Rounded Rectangle 4"/>
          <p:cNvSpPr/>
          <p:nvPr/>
        </p:nvSpPr>
        <p:spPr>
          <a:xfrm>
            <a:off x="1332000" y="4343400"/>
            <a:ext cx="6119640" cy="182232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Verdana"/>
              </a:rPr>
              <a:t>¿Qué puede hacerse y cuáles son las necesidades institucionales y de capacidades en su país/sector de responsabilidad? 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98100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72bfc5"/>
                </a:solidFill>
                <a:latin typeface="Verdana"/>
              </a:rPr>
              <a:t>Recapitulación - Mensajes clav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324000" y="1341360"/>
            <a:ext cx="853416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Las políticas relativas al medio ambiente y al clima pueden incidir en el presupuesto nacional de muchas maneras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18960" indent="-3189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Hay puntos de partida para integrar el cambio climático y el medio ambiente en prácticamente todas las fases del proceso presupuestario, incluyendo en la fase de evaluación </a:t>
            </a:r>
            <a:r>
              <a:rPr b="0" i="1" lang="en-GB" sz="2000" spc="-1" strike="noStrike">
                <a:solidFill>
                  <a:srgbClr val="0f5494"/>
                </a:solidFill>
                <a:latin typeface="Verdana"/>
              </a:rPr>
              <a:t>ex post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 (RGP, RGPA y RIGPC)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18960" indent="-3189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Se recomienda establecer sistemas para realizar un seguimiento de los gastos relativos al medio ambiente y al cambio climático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18960" indent="-3189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Existen muchas fuentes de financiación para apoyar las iniciativas relativas al medio ambiente y al cambio climático – centrarse en la elegibilidad y los objetivos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18960" indent="-3189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Cuando se cumplen las condiciones, el apoyo presupuestario constituye una buena forma de respaldar los esfuerzos de integración del cambio climático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D7341-2948-45E8-83C6-6EF94A0B303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0" y="981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3c8c93"/>
                </a:solidFill>
                <a:latin typeface="Verdana"/>
              </a:rPr>
              <a:t>Bibliografía clav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4920" y="184428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Petkova N. (2009) Integrating Public Environmental Expenditure within Multi-year Budgetary Frameworks. </a:t>
            </a:r>
            <a:br>
              <a:rPr sz="2000"/>
            </a:b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Documento de Trabajo sobre el Medio Ambiente de la OCDE nº 7 Ediciones OCDE, París.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Página web de Carbon Finance del Banco Mundial: www.carbonfinance.org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Climate Funds Update: </a:t>
            </a:r>
            <a:r>
              <a:rPr b="0" lang="en-GB" sz="2000" spc="-1" strike="noStrike" u="sng">
                <a:solidFill>
                  <a:srgbClr val="0f5494"/>
                </a:solidFill>
                <a:uFillTx/>
                <a:latin typeface="Verdana"/>
              </a:rPr>
              <a:t>http://www.climatefundsupdate.org/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Markandya, A; Hamilton, K and Sanchez-Triana, E (2006) Getting the Most for the Money – How Public Environmental Expenditure Reviews Can Help. Notas sobre la Estrategia Medioambiental del Banco Mundial Nº 16, septiembre de 2006.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Revisión Institucional y del Gasto Público Climático  http://www.aideffectiveness.org/CPEIR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6B4CB-4260-470E-8EFE-D5C7F65F42D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72bfc5"/>
                </a:solidFill>
                <a:latin typeface="Verdana"/>
              </a:rPr>
              <a:t>Bibliografía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394920" y="1672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Página web de Carbon Finance del Banco Mundial: www.carbonfinance.org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Climate Funds Update: </a:t>
            </a:r>
            <a:r>
              <a:rPr b="0" lang="en-GB" sz="1600" spc="-1" strike="noStrike" u="sng">
                <a:solidFill>
                  <a:srgbClr val="0f5494"/>
                </a:solidFill>
                <a:uFillTx/>
                <a:latin typeface="Verdana"/>
              </a:rPr>
              <a:t>http://www.climatefundsupdate.org/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Forest Trends (2013) Maneuvering the Mosaic, State of the Voluntary Carbon Markets 2013. Ecosystem Marketplace &amp; Bloomberg New Energy Finance: Washington y New York. 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OCDE (2009a) Integración de la Adaptación en la Cooperación para el Desarrollo: Guía sobre políticas. Ediciones OCDE, París. [Sólo lectura, edición navegable] Disponible en: </a:t>
            </a:r>
            <a:r>
              <a:rPr b="0" lang="en-GB" sz="1600" spc="-1" strike="noStrike" u="sng">
                <a:solidFill>
                  <a:srgbClr val="0f5494"/>
                </a:solidFill>
                <a:uFillTx/>
                <a:latin typeface="Verdana"/>
              </a:rPr>
              <a:t>http://browse.oecdbookshop.org/oecd/pdfs/browseit/4309171E.PDF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OECD-DAC (2011) Handbook on the OECD-DAC Climate Markers. Organización para la Cooperación y el Desarrollo Económico, París. Disponible en:  </a:t>
            </a:r>
            <a:r>
              <a:rPr b="0" lang="en-GB" sz="1600" spc="-1" strike="noStrike" u="sng">
                <a:solidFill>
                  <a:srgbClr val="0f5494"/>
                </a:solidFill>
                <a:uFillTx/>
                <a:latin typeface="Verdana"/>
              </a:rPr>
              <a:t>http://www.oecd.org/dataoecd/56/18/48785310.pdf 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UNDP-UNEP (2011) Mainstreaming Adaptation to Climate Change into Development Planning: A Guide for Practitioners. UNDP-UNEP Poverty-Environment Initiative. Disponible en: </a:t>
            </a:r>
            <a:r>
              <a:rPr b="0" lang="en-GB" sz="1600" spc="-1" strike="noStrike" u="sng">
                <a:solidFill>
                  <a:srgbClr val="0f5494"/>
                </a:solidFill>
                <a:uFillTx/>
                <a:latin typeface="Verdana"/>
              </a:rPr>
              <a:t>http://www.unpei.org/knowledge-resources/publications.html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A7BED-6DCA-44A4-B8DF-999410EE594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72bfc5"/>
                </a:solidFill>
                <a:latin typeface="Verdana"/>
              </a:rPr>
              <a:t>Bibliografía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4920" y="1557360"/>
            <a:ext cx="80010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Norrington-Davies, G and Thornton, N (2011) Climate change financing and aid effectiveness, Kenya case study. OECD, ADB.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270720" indent="-27072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Swanson, A and Lundethors, L (2003) Public Environmental Expenditure Reviews (PEERS), Experience and Emerging Practice. Documentos de Estrategia Medioambiental del Banco Mundial Nº 7.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270720" indent="-27072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Banco Mundial (n.d.) Mainstreaming Adaptation to Climate Change in Agriculture and Natural Resources Management Projects. Banco Mundial, Washington, DC. Nota de Orientación nº4 – Developing Readiness for Institutional Capacity Development and an Enabling Policy Framework. [</a:t>
            </a:r>
            <a:r>
              <a:rPr b="0" i="1" lang="en-GB" sz="1600" spc="-1" strike="noStrike">
                <a:solidFill>
                  <a:srgbClr val="0f5494"/>
                </a:solidFill>
                <a:latin typeface="Verdana"/>
              </a:rPr>
              <a:t>On-line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] Disponible en: </a:t>
            </a:r>
            <a:r>
              <a:rPr b="0" lang="en-GB" sz="1600" spc="-1" strike="noStrike" u="sng">
                <a:solidFill>
                  <a:srgbClr val="0f5494"/>
                </a:solidFill>
                <a:uFillTx/>
                <a:latin typeface="Verdana"/>
              </a:rPr>
              <a:t>http://climatechange.worldbank.org/climatechange/content/mainstreaming-adaptation-climate-change-agriculture-and-natural-resources-management-project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E16BA-50B7-4FD6-8C0F-4368B39FF8B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324000" y="2491920"/>
            <a:ext cx="8534160" cy="1676520"/>
          </a:xfrm>
          <a:prstGeom prst="rect">
            <a:avLst/>
          </a:prstGeom>
          <a:gradFill rotWithShape="0">
            <a:gsLst>
              <a:gs pos="0">
                <a:srgbClr val="afe0e4"/>
              </a:gs>
              <a:gs pos="100000">
                <a:srgbClr val="85aaad"/>
              </a:gs>
            </a:gsLst>
            <a:lin ang="5400000"/>
          </a:gradFill>
          <a:ln w="93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marL="343080" indent="-343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f5494"/>
                </a:solidFill>
                <a:latin typeface="Verdana"/>
              </a:rPr>
              <a:t>Vinculación del presupuesto a los objetivos de las políticas y a los resultados esperados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6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04617-1C58-4A53-8BA7-23577C16961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97632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Verdana"/>
              </a:rPr>
              <a:t>Vinculación del gasto a las políticas y a los resultados, con un enfoque a medio plazo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8" name="TextBox 76"/>
          <p:cNvSpPr/>
          <p:nvPr/>
        </p:nvSpPr>
        <p:spPr>
          <a:xfrm>
            <a:off x="2552760" y="1673280"/>
            <a:ext cx="4038480" cy="383400"/>
          </a:xfrm>
          <a:prstGeom prst="rect">
            <a:avLst/>
          </a:prstGeom>
          <a:solidFill>
            <a:srgbClr val="f0f8f9"/>
          </a:solidFill>
          <a:ln w="2844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2060"/>
                </a:solidFill>
                <a:latin typeface="Verdana"/>
              </a:rPr>
              <a:t>Objetivos y estrategias nacionales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9" name="TextBox 77"/>
          <p:cNvSpPr/>
          <p:nvPr/>
        </p:nvSpPr>
        <p:spPr>
          <a:xfrm>
            <a:off x="5019840" y="2751120"/>
            <a:ext cx="3743280" cy="672840"/>
          </a:xfrm>
          <a:prstGeom prst="rect">
            <a:avLst/>
          </a:prstGeom>
          <a:solidFill>
            <a:srgbClr val="92d050"/>
          </a:solidFill>
          <a:ln w="2844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2060"/>
                </a:solidFill>
                <a:latin typeface="Verdana"/>
              </a:rPr>
              <a:t>Marco de gastos o perspectiva presupuestaria a medio plazo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0" name="TextBox 78"/>
          <p:cNvSpPr/>
          <p:nvPr/>
        </p:nvSpPr>
        <p:spPr>
          <a:xfrm>
            <a:off x="371520" y="2751120"/>
            <a:ext cx="3743280" cy="672840"/>
          </a:xfrm>
          <a:prstGeom prst="rect">
            <a:avLst/>
          </a:prstGeom>
          <a:solidFill>
            <a:srgbClr val="92d050"/>
          </a:solidFill>
          <a:ln w="2844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2060"/>
                </a:solidFill>
                <a:latin typeface="Verdana"/>
              </a:rPr>
              <a:t>Planes sectoriales a medio plazo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1" name="TextBox 79"/>
          <p:cNvSpPr/>
          <p:nvPr/>
        </p:nvSpPr>
        <p:spPr>
          <a:xfrm>
            <a:off x="2552760" y="4038480"/>
            <a:ext cx="4038480" cy="383400"/>
          </a:xfrm>
          <a:prstGeom prst="rect">
            <a:avLst/>
          </a:prstGeom>
          <a:solidFill>
            <a:srgbClr val="00b050"/>
          </a:solidFill>
          <a:ln w="2844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2060"/>
                </a:solidFill>
                <a:latin typeface="Verdana"/>
              </a:rPr>
              <a:t>Presupuesto anual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2" name="TextBox 80"/>
          <p:cNvSpPr/>
          <p:nvPr/>
        </p:nvSpPr>
        <p:spPr>
          <a:xfrm>
            <a:off x="1979640" y="4653000"/>
            <a:ext cx="5184720" cy="383400"/>
          </a:xfrm>
          <a:prstGeom prst="rect">
            <a:avLst/>
          </a:prstGeom>
          <a:solidFill>
            <a:srgbClr val="f0f8f9"/>
          </a:solidFill>
          <a:ln w="2844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2060"/>
                </a:solidFill>
                <a:latin typeface="Verdana"/>
              </a:rPr>
              <a:t>Implementación y prestación de servicios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3" name="TextBox 81"/>
          <p:cNvSpPr/>
          <p:nvPr/>
        </p:nvSpPr>
        <p:spPr>
          <a:xfrm>
            <a:off x="1979640" y="5562720"/>
            <a:ext cx="5184720" cy="383400"/>
          </a:xfrm>
          <a:prstGeom prst="rect">
            <a:avLst/>
          </a:prstGeom>
          <a:solidFill>
            <a:srgbClr val="f0f8f9"/>
          </a:solidFill>
          <a:ln w="2844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2060"/>
                </a:solidFill>
                <a:latin typeface="Verdana"/>
              </a:rPr>
              <a:t>Monitoreo del desempeño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134" name="Shape 83"/>
          <p:cNvCxnSpPr>
            <a:stCxn id="128" idx="1"/>
            <a:endCxn id="130" idx="0"/>
          </p:cNvCxnSpPr>
          <p:nvPr/>
        </p:nvCxnSpPr>
        <p:spPr>
          <a:xfrm flipV="1" rot="10800000">
            <a:off x="2242440" y="2010240"/>
            <a:ext cx="310320" cy="740520"/>
          </a:xfrm>
          <a:prstGeom prst="bentConnector2">
            <a:avLst/>
          </a:prstGeom>
          <a:ln w="28440">
            <a:solidFill>
              <a:srgbClr val="0f5494"/>
            </a:solidFill>
            <a:miter/>
            <a:tailEnd len="med" type="arrow" w="med"/>
          </a:ln>
        </p:spPr>
      </p:cxnSp>
      <p:cxnSp>
        <p:nvCxnSpPr>
          <p:cNvPr id="135" name="Shape 89"/>
          <p:cNvCxnSpPr>
            <a:stCxn id="128" idx="3"/>
            <a:endCxn id="129" idx="0"/>
          </p:cNvCxnSpPr>
          <p:nvPr/>
        </p:nvCxnSpPr>
        <p:spPr>
          <a:xfrm>
            <a:off x="6591240" y="2010960"/>
            <a:ext cx="300600" cy="740520"/>
          </a:xfrm>
          <a:prstGeom prst="bentConnector2">
            <a:avLst/>
          </a:prstGeom>
          <a:ln w="28440">
            <a:solidFill>
              <a:srgbClr val="0f5494"/>
            </a:solidFill>
            <a:miter/>
            <a:tailEnd len="med" type="arrow" w="med"/>
          </a:ln>
        </p:spPr>
      </p:cxnSp>
      <p:cxnSp>
        <p:nvCxnSpPr>
          <p:cNvPr id="136" name="Straight Arrow Connector 93"/>
          <p:cNvCxnSpPr>
            <a:stCxn id="130" idx="3"/>
            <a:endCxn id="129" idx="1"/>
          </p:cNvCxnSpPr>
          <p:nvPr/>
        </p:nvCxnSpPr>
        <p:spPr>
          <a:xfrm flipV="1">
            <a:off x="4114800" y="3233520"/>
            <a:ext cx="905760" cy="2160"/>
          </a:xfrm>
          <a:prstGeom prst="straightConnector1">
            <a:avLst/>
          </a:prstGeom>
          <a:ln w="28440">
            <a:solidFill>
              <a:srgbClr val="0f5494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37" name="Shape 95"/>
          <p:cNvCxnSpPr>
            <a:stCxn id="130" idx="2"/>
            <a:endCxn id="131" idx="1"/>
          </p:cNvCxnSpPr>
          <p:nvPr/>
        </p:nvCxnSpPr>
        <p:spPr>
          <a:xfrm flipH="1" rot="16200000">
            <a:off x="2143080" y="3820680"/>
            <a:ext cx="510480" cy="310320"/>
          </a:xfrm>
          <a:prstGeom prst="bentConnector2">
            <a:avLst/>
          </a:prstGeom>
          <a:ln w="28440">
            <a:solidFill>
              <a:srgbClr val="0f5494"/>
            </a:solidFill>
            <a:miter/>
            <a:tailEnd len="med" type="arrow" w="med"/>
          </a:ln>
        </p:spPr>
      </p:cxnSp>
      <p:cxnSp>
        <p:nvCxnSpPr>
          <p:cNvPr id="138" name="Shape 97"/>
          <p:cNvCxnSpPr>
            <a:stCxn id="129" idx="2"/>
            <a:endCxn id="131" idx="3"/>
          </p:cNvCxnSpPr>
          <p:nvPr/>
        </p:nvCxnSpPr>
        <p:spPr>
          <a:xfrm rot="5400000">
            <a:off x="6483960" y="3823200"/>
            <a:ext cx="515160" cy="300600"/>
          </a:xfrm>
          <a:prstGeom prst="bentConnector2">
            <a:avLst/>
          </a:prstGeom>
          <a:ln w="28440">
            <a:solidFill>
              <a:srgbClr val="0f5494"/>
            </a:solidFill>
            <a:miter/>
            <a:tailEnd len="med" type="arrow" w="med"/>
          </a:ln>
        </p:spPr>
      </p:cxnSp>
      <p:cxnSp>
        <p:nvCxnSpPr>
          <p:cNvPr id="139" name="Straight Arrow Connector 99"/>
          <p:cNvCxnSpPr>
            <a:stCxn id="131" idx="2"/>
          </p:cNvCxnSpPr>
          <p:nvPr/>
        </p:nvCxnSpPr>
        <p:spPr>
          <a:xfrm>
            <a:off x="4571640" y="4422600"/>
            <a:ext cx="1080" cy="231120"/>
          </a:xfrm>
          <a:prstGeom prst="straightConnector1">
            <a:avLst/>
          </a:prstGeom>
          <a:ln w="28440">
            <a:solidFill>
              <a:srgbClr val="0f5494"/>
            </a:solidFill>
            <a:miter/>
            <a:tailEnd len="med" type="arrow" w="med"/>
          </a:ln>
        </p:spPr>
      </p:cxnSp>
      <p:cxnSp>
        <p:nvCxnSpPr>
          <p:cNvPr id="140" name="Straight Arrow Connector 101"/>
          <p:cNvCxnSpPr>
            <a:stCxn id="132" idx="2"/>
            <a:endCxn id="133" idx="0"/>
          </p:cNvCxnSpPr>
          <p:nvPr/>
        </p:nvCxnSpPr>
        <p:spPr>
          <a:xfrm>
            <a:off x="4571640" y="5330880"/>
            <a:ext cx="1080" cy="232560"/>
          </a:xfrm>
          <a:prstGeom prst="straightConnector1">
            <a:avLst/>
          </a:prstGeom>
          <a:ln w="28440">
            <a:solidFill>
              <a:srgbClr val="0f5494"/>
            </a:solidFill>
            <a:miter/>
            <a:tailEnd len="med" type="arrow" w="med"/>
          </a:ln>
        </p:spPr>
      </p:cxnSp>
      <p:sp>
        <p:nvSpPr>
          <p:cNvPr id="141" name="Slide Number Placeholder 1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AEAD1-7BA5-4D09-8CDB-5DF2D366472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79280" y="1125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El marco de gastos a medio plazo (MGMP)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50920" y="2204640"/>
            <a:ext cx="853416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Una herramienta de planificación presupuestaria orientada al futuro que cubre un periodo de entre 3 y 5 años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Vincula sistemáticamente objetivos estratégicos (nacionales/sectoriales) y resultados/productos con las acciones necesarias para conseguirlos, así como con los recursos y gastos correspondientes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Apoya el establecimiento de prioridades con respecto a los gastos y la previsibilidad de recursos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Facilita el monitoreo del desempeño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Puede establecerse tanto a nivel nacional (asignaciones intersectoriales) como a nivel sectorial (asignaciones intrasectoriales)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FBB15-30D3-4739-9885-CEB246281D1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981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En la práctica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6840" y="2060640"/>
            <a:ext cx="8534520" cy="441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Los MGMP son herramientas sofisticadas. Hay pocos países que cuenten con un MGMPs completo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La elaboración de previsiones a medio plazo de gastos nacionales y/o sectoriales constituye un buen punto de partida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Se han de reconocer las incertidumbres asociadas a las previsiones y los pronóstico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14FA0-E75A-4BC9-9558-20F58F01E05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8" name="Rounded Rectangle 6"/>
          <p:cNvSpPr/>
          <p:nvPr/>
        </p:nvSpPr>
        <p:spPr>
          <a:xfrm>
            <a:off x="1692360" y="5373720"/>
            <a:ext cx="5410080" cy="99072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Verdana"/>
              </a:rPr>
              <a:t>¿Qué prácticas se siguen en sus respectivos países? 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324000" y="2491920"/>
            <a:ext cx="8534160" cy="1676520"/>
          </a:xfrm>
          <a:prstGeom prst="rect">
            <a:avLst/>
          </a:prstGeom>
          <a:gradFill rotWithShape="0">
            <a:gsLst>
              <a:gs pos="0">
                <a:srgbClr val="afe0e4"/>
              </a:gs>
              <a:gs pos="100000">
                <a:srgbClr val="85aaad"/>
              </a:gs>
            </a:gsLst>
            <a:lin ang="5400000"/>
          </a:gradFill>
          <a:ln w="93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marL="343080" indent="-343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f5494"/>
                </a:solidFill>
                <a:latin typeface="Verdana"/>
              </a:rPr>
              <a:t>Puntos de partida para la integración 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f5494"/>
                </a:solidFill>
                <a:latin typeface="Verdana"/>
              </a:rPr>
              <a:t>medioambiental y de cambio climático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0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1C0F7-9DD4-4775-8D23-606934AD300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turneem</dc:creator>
  <dc:description/>
  <dc:language>en-US</dc:language>
  <cp:lastModifiedBy>Juan Palerm</cp:lastModifiedBy>
  <dcterms:modified xsi:type="dcterms:W3CDTF">2014-05-25T14:24:08Z</dcterms:modified>
  <cp:revision>118</cp:revision>
  <dc:subject/>
  <dc:title>Slide 1</dc:title>
</cp:coreProperties>
</file>